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56773-50BD-41D9-BAB2-6540B2824A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90360" y="39020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6D75A-A46D-42DB-BBC5-37A54A0FEC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56040" y="17524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90360" y="39020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6040" y="39020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3254B-84EE-44AF-A5BB-6CCB652A21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40960" y="17524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91920" y="17524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90360" y="39020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40960" y="39020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91920" y="39020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0330D-E081-4A07-8C2E-010115A07A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90360" y="17524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56040" y="17524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56040" y="17524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360" y="39020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90360" y="17524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1D215-7968-4315-A2C8-52A27B81A7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56040" y="17524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56040" y="39020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56040" y="17524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360" y="39020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90360" y="39020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56040" y="17524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360" y="39020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56040" y="39020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40960" y="17524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91920" y="17524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90360" y="39020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40960" y="39020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91920" y="39020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187B0-5D59-44C7-8A94-9B2C4B2E24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56040" y="17524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EAE04-AD94-419C-AED8-0EA505DC96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8E14F-6567-472F-BA12-5C9C3B5860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9072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735D3-4279-4694-9D9E-CF886D5FC3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56040" y="17524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360" y="39020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5C767-383D-4F45-8A6B-7E12D3CBC8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56040" y="17524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56040" y="39020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9B7EF-DA61-4FCB-B1FC-C744E9F224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6040" y="17524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360" y="39020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03154-D0F3-42D9-87B5-94A431EF20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237-215-32_yellow" descr=""/>
          <p:cNvPicPr/>
          <p:nvPr/>
        </p:nvPicPr>
        <p:blipFill>
          <a:blip r:embed="rId2"/>
          <a:stretch/>
        </p:blipFill>
        <p:spPr>
          <a:xfrm>
            <a:off x="533520" y="0"/>
            <a:ext cx="8610480" cy="1371600"/>
          </a:xfrm>
          <a:prstGeom prst="rect">
            <a:avLst/>
          </a:prstGeom>
          <a:ln w="0">
            <a:noFill/>
          </a:ln>
        </p:spPr>
      </p:pic>
      <p:pic>
        <p:nvPicPr>
          <p:cNvPr id="1" name="100-52-133__purple" descr=""/>
          <p:cNvPicPr/>
          <p:nvPr/>
        </p:nvPicPr>
        <p:blipFill>
          <a:blip r:embed="rId3"/>
          <a:stretch/>
        </p:blipFill>
        <p:spPr>
          <a:xfrm>
            <a:off x="0" y="0"/>
            <a:ext cx="533520" cy="6858000"/>
          </a:xfrm>
          <a:prstGeom prst="rect">
            <a:avLst/>
          </a:prstGeom>
          <a:ln w="0">
            <a:noFill/>
          </a:ln>
        </p:spPr>
      </p:pic>
      <p:pic>
        <p:nvPicPr>
          <p:cNvPr id="2" name="logo_javaone" descr=""/>
          <p:cNvPicPr/>
          <p:nvPr/>
        </p:nvPicPr>
        <p:blipFill>
          <a:blip r:embed="rId4"/>
          <a:stretch/>
        </p:blipFill>
        <p:spPr>
          <a:xfrm>
            <a:off x="7772400" y="5867280"/>
            <a:ext cx="1371600" cy="94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90360" y="17524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113004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90720" y="6629400"/>
            <a:ext cx="0" cy="2286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633240" y="6629040"/>
            <a:ext cx="470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453AB-62FA-4BD4-A1F1-EF2D654AEF76}" type="slidenum">
              <a:rPr b="0" lang="en-US" sz="9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6629400"/>
            <a:ext cx="533520" cy="223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00680"/>
            <a:ext cx="533520" cy="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cc00"/>
                </a:solidFill>
                <a:latin typeface="Arial Narrow"/>
              </a:rPr>
              <a:t>Midd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237-215-32_yellow" descr=""/>
          <p:cNvPicPr/>
          <p:nvPr/>
        </p:nvPicPr>
        <p:blipFill>
          <a:blip r:embed="rId2"/>
          <a:stretch/>
        </p:blipFill>
        <p:spPr>
          <a:xfrm>
            <a:off x="1828800" y="0"/>
            <a:ext cx="73152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100-52-133__purple" descr=""/>
          <p:cNvPicPr/>
          <p:nvPr/>
        </p:nvPicPr>
        <p:blipFill>
          <a:blip r:embed="rId3"/>
          <a:stretch/>
        </p:blipFill>
        <p:spPr>
          <a:xfrm>
            <a:off x="0" y="0"/>
            <a:ext cx="18288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61960" y="289512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3"/>
          </p:nvPr>
        </p:nvSpPr>
        <p:spPr>
          <a:xfrm>
            <a:off x="1828800" y="662904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9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logo_JavaOne-Title" descr=""/>
          <p:cNvPicPr/>
          <p:nvPr/>
        </p:nvPicPr>
        <p:blipFill>
          <a:blip r:embed="rId4"/>
          <a:stretch/>
        </p:blipFill>
        <p:spPr>
          <a:xfrm>
            <a:off x="2506680" y="388800"/>
            <a:ext cx="4726080" cy="12668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451"/>
              </a:spcBef>
              <a:spcAft>
                <a:spcPts val="751"/>
              </a:spcAft>
              <a:buClr>
                <a:srgbClr val="cc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451"/>
              </a:spcBef>
              <a:spcAft>
                <a:spcPts val="751"/>
              </a:spcAft>
              <a:buClr>
                <a:srgbClr val="cc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jakarta.apache.org/slide" TargetMode="Externa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ietf.org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361960" y="289512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Java and WebDAV</a:t>
            </a:r>
            <a:endParaRPr b="1" lang="en-US" sz="3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057040" y="5028840"/>
            <a:ext cx="304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Juergen Pi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am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der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ftware A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15000" y="5029200"/>
            <a:ext cx="3048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my Maucher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ftware Engine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n Microsyste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BOF-1147, JavaTM Technology and WebDAV: Standardizing Content Manageme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WebDAV - Searching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L (DAV Searching and Locatin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37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tocol to exchange query and dat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37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ssibility to negotiate a query languag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37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nimal query language wi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olean search for property existence or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rch for a substring in a resource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in definition phase – draft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OF-1147, JavaTM Technology and WebDAV: Standardizing Content Manage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5B1C2-A650-4A04-881B-45F593497C9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WebDAV - Security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L (Access Control Extension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1137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incipals (human or computer acto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1137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ivile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-a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-a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to be defined in the WebDAV Server (Cre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1137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method: </a:t>
            </a:r>
            <a:r>
              <a:rPr b="1" lang="en-US" sz="2600" spc="-1" strike="noStrike">
                <a:solidFill>
                  <a:srgbClr val="666699"/>
                </a:solidFill>
                <a:latin typeface="Arial"/>
              </a:rPr>
              <a:t>AC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in definition phase – draft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OF-1147, JavaTM Technology and WebDAV: Standardizing Content Manage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9D03A-43AA-4B62-8B7E-5A811E84B7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WebDAV – HTTP extensions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2361960" cy="4114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64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64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64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64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64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64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64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64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09880" y="1752480"/>
            <a:ext cx="472464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DAV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dditional metho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64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pFi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64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pPat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64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kC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64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let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colle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64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ut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colle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64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py, Mo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64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ck, Unlo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y == 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OF-1147, JavaTM Technology and WebDAV: Standardizing Content Management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726AE-9127-4EB3-AF54-19F2FD8C34C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066680" y="3657600"/>
            <a:ext cx="6324840" cy="68580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9898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990360" y="17524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WebDA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37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bDAV go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37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jor benef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37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akarta Slide proj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mino WebDAV Server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e de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Presentation Agenda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6629400"/>
            <a:ext cx="533520" cy="228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6705720"/>
            <a:ext cx="533520" cy="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5050"/>
                </a:solidFill>
                <a:latin typeface="Arial Narrow"/>
              </a:rPr>
              <a:t>Beginn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OF-1147, JavaTM Technology and WebDAV: Standardizing Content Manage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6AB9C-566C-4DBF-8F91-EA425F65113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The Jakarta Slide Project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-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ache licence (BSD lik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one can particip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content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dDAV client and server 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jakarta-logo" descr=""/>
          <p:cNvPicPr/>
          <p:nvPr/>
        </p:nvPicPr>
        <p:blipFill>
          <a:blip r:embed="rId1"/>
          <a:stretch/>
        </p:blipFill>
        <p:spPr>
          <a:xfrm>
            <a:off x="762120" y="5410080"/>
            <a:ext cx="400032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OF-1147, JavaTM Technology and WebDAV: Standardizing Content Manage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4C187-B48A-417F-8668-30A23BB21D3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143000" y="3276720"/>
            <a:ext cx="6629400" cy="3047760"/>
          </a:xfrm>
          <a:prstGeom prst="rect">
            <a:avLst/>
          </a:prstGeom>
          <a:solidFill>
            <a:srgbClr val="d4d6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External Architecture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47920" y="3581280"/>
            <a:ext cx="3962160" cy="6858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DAV Serv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0" y="27432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590920" y="27428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43000" y="1676520"/>
            <a:ext cx="7238880" cy="533160"/>
          </a:xfrm>
          <a:prstGeom prst="flowChartProcess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43000" y="2209680"/>
            <a:ext cx="236232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DAV 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05320" y="2209680"/>
            <a:ext cx="190476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 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10080" y="2209680"/>
            <a:ext cx="297180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47920" y="4952880"/>
            <a:ext cx="6019560" cy="6858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A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267080" y="27432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572000" y="27428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4267080"/>
            <a:ext cx="304560" cy="685800"/>
          </a:xfrm>
          <a:prstGeom prst="upDownArrow">
            <a:avLst>
              <a:gd name="adj1" fmla="val 50000"/>
              <a:gd name="adj2" fmla="val 4482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0" y="2666880"/>
            <a:ext cx="304920" cy="2286000"/>
          </a:xfrm>
          <a:prstGeom prst="upDownArrow">
            <a:avLst>
              <a:gd name="adj1" fmla="val 50000"/>
              <a:gd name="adj2" fmla="val 14924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43000" y="5867280"/>
            <a:ext cx="6629400" cy="457200"/>
          </a:xfrm>
          <a:prstGeom prst="rect">
            <a:avLst/>
          </a:prstGeom>
          <a:solidFill>
            <a:srgbClr val="c1c4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09880" y="5867280"/>
            <a:ext cx="13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OF-1147, JavaTM Technology and WebDAV: Standardizing Content Managem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EF5DB-D4FA-4D6F-B840-7E9124D897E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990720" y="3124080"/>
            <a:ext cx="4952880" cy="1143000"/>
          </a:xfrm>
          <a:prstGeom prst="rect">
            <a:avLst/>
          </a:prstGeom>
          <a:solidFill>
            <a:srgbClr val="d4d6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90720" y="4648320"/>
            <a:ext cx="4952880" cy="1904760"/>
          </a:xfrm>
          <a:prstGeom prst="rect">
            <a:avLst/>
          </a:prstGeom>
          <a:solidFill>
            <a:srgbClr val="d4d6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Internal Architecture 1/2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1600200"/>
            <a:ext cx="2895480" cy="457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DAV Serv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34120" y="1600200"/>
            <a:ext cx="304776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2590920"/>
            <a:ext cx="7315200" cy="304560"/>
          </a:xfrm>
          <a:prstGeom prst="roundRect">
            <a:avLst>
              <a:gd name="adj" fmla="val 16667"/>
            </a:avLst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A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438280" y="2057400"/>
            <a:ext cx="304920" cy="533520"/>
          </a:xfrm>
          <a:prstGeom prst="upDownArrow">
            <a:avLst>
              <a:gd name="adj1" fmla="val 50000"/>
              <a:gd name="adj2" fmla="val 3483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705720" y="2057400"/>
            <a:ext cx="304560" cy="533520"/>
          </a:xfrm>
          <a:prstGeom prst="upDownArrow">
            <a:avLst>
              <a:gd name="adj1" fmla="val 50000"/>
              <a:gd name="adj2" fmla="val 34873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2895480"/>
            <a:ext cx="228600" cy="381240"/>
          </a:xfrm>
          <a:prstGeom prst="upDownArrow">
            <a:avLst>
              <a:gd name="adj1" fmla="val 50000"/>
              <a:gd name="adj2" fmla="val 332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1447560" cy="457200"/>
          </a:xfrm>
          <a:prstGeom prst="flowChartAlternateProcess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8120" y="3276720"/>
            <a:ext cx="838080" cy="457200"/>
          </a:xfrm>
          <a:prstGeom prst="flowChartAlternateProcess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67080" y="3276720"/>
            <a:ext cx="1447920" cy="457200"/>
          </a:xfrm>
          <a:prstGeom prst="flowChartAlternateProcess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666880" y="3429000"/>
            <a:ext cx="381240" cy="152280"/>
          </a:xfrm>
          <a:prstGeom prst="leftRightArrow">
            <a:avLst>
              <a:gd name="adj1" fmla="val 50000"/>
              <a:gd name="adj2" fmla="val 49839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86200" y="3429000"/>
            <a:ext cx="380880" cy="152280"/>
          </a:xfrm>
          <a:prstGeom prst="leftRightArrow">
            <a:avLst>
              <a:gd name="adj1" fmla="val 50000"/>
              <a:gd name="adj2" fmla="val 4979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47920" y="4800600"/>
            <a:ext cx="3962160" cy="3808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S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4267080"/>
            <a:ext cx="304560" cy="381240"/>
          </a:xfrm>
          <a:prstGeom prst="upDownArrow">
            <a:avLst>
              <a:gd name="adj1" fmla="val 50000"/>
              <a:gd name="adj2" fmla="val 24919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90720" y="5562720"/>
            <a:ext cx="4952880" cy="990360"/>
          </a:xfrm>
          <a:prstGeom prst="rect">
            <a:avLst/>
          </a:prstGeom>
          <a:solidFill>
            <a:srgbClr val="c1c4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66680" y="5638680"/>
            <a:ext cx="914400" cy="838440"/>
          </a:xfrm>
          <a:prstGeom prst="can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D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57400" y="5638680"/>
            <a:ext cx="1523880" cy="838440"/>
          </a:xfrm>
          <a:prstGeom prst="can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52680" y="2895480"/>
            <a:ext cx="228600" cy="381240"/>
          </a:xfrm>
          <a:prstGeom prst="upDownArrow">
            <a:avLst>
              <a:gd name="adj1" fmla="val 50000"/>
              <a:gd name="adj2" fmla="val 332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76920" y="2895480"/>
            <a:ext cx="228600" cy="381240"/>
          </a:xfrm>
          <a:prstGeom prst="upDownArrow">
            <a:avLst>
              <a:gd name="adj1" fmla="val 50000"/>
              <a:gd name="adj2" fmla="val 332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629400" y="472428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934320" y="2895480"/>
            <a:ext cx="228600" cy="1828800"/>
          </a:xfrm>
          <a:prstGeom prst="upDownArrow">
            <a:avLst>
              <a:gd name="adj1" fmla="val 50000"/>
              <a:gd name="adj2" fmla="val 159259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657600" y="5638680"/>
            <a:ext cx="1295280" cy="838440"/>
          </a:xfrm>
          <a:prstGeom prst="can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m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943600" y="4876920"/>
            <a:ext cx="685800" cy="228600"/>
          </a:xfrm>
          <a:prstGeom prst="leftRightArrow">
            <a:avLst>
              <a:gd name="adj1" fmla="val 50000"/>
              <a:gd name="adj2" fmla="val 5972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315200" y="2590920"/>
            <a:ext cx="1143000" cy="3045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N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29200" y="5638680"/>
            <a:ext cx="838080" cy="838440"/>
          </a:xfrm>
          <a:prstGeom prst="can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76720" y="5257800"/>
            <a:ext cx="304560" cy="2286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90720" y="3809880"/>
            <a:ext cx="4952880" cy="457200"/>
          </a:xfrm>
          <a:prstGeom prst="rect">
            <a:avLst/>
          </a:prstGeom>
          <a:solidFill>
            <a:srgbClr val="c1c4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23120" y="38098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OF-1147, JavaTM Technology and WebDAV: Standardizing Content Managem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CB1D2-F1D0-4D36-B571-4E0F7EF02E5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Internal Architecture 2/2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15000" y="4724280"/>
            <a:ext cx="1905120" cy="8384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553080" y="411480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95280" y="2438280"/>
            <a:ext cx="6934320" cy="304920"/>
          </a:xfrm>
          <a:prstGeom prst="roundRect">
            <a:avLst>
              <a:gd name="adj" fmla="val 16667"/>
            </a:avLst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A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3657600"/>
            <a:ext cx="2362320" cy="457200"/>
          </a:xfrm>
          <a:prstGeom prst="flowChartAlternateProcess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Trans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23880" y="3886200"/>
            <a:ext cx="3429000" cy="2209680"/>
          </a:xfrm>
          <a:prstGeom prst="rect">
            <a:avLst/>
          </a:prstGeom>
          <a:solidFill>
            <a:srgbClr val="d4d6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523880" y="3124080"/>
            <a:ext cx="3429000" cy="457200"/>
          </a:xfrm>
          <a:prstGeom prst="rect">
            <a:avLst/>
          </a:prstGeom>
          <a:solidFill>
            <a:srgbClr val="c1c4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5029200"/>
            <a:ext cx="1219320" cy="228600"/>
          </a:xfrm>
          <a:prstGeom prst="leftRightArrow">
            <a:avLst>
              <a:gd name="adj1" fmla="val 50000"/>
              <a:gd name="adj2" fmla="val 106183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23880" y="5638680"/>
            <a:ext cx="3429000" cy="457200"/>
          </a:xfrm>
          <a:prstGeom prst="rect">
            <a:avLst/>
          </a:prstGeom>
          <a:solidFill>
            <a:srgbClr val="c1c4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9880" y="4952880"/>
            <a:ext cx="685800" cy="3812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133720" y="4114800"/>
            <a:ext cx="2209680" cy="3808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A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05120" y="4876920"/>
            <a:ext cx="1143000" cy="609480"/>
          </a:xfrm>
          <a:prstGeom prst="can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3581280"/>
            <a:ext cx="228600" cy="533520"/>
          </a:xfrm>
          <a:prstGeom prst="upDownArrow">
            <a:avLst>
              <a:gd name="adj1" fmla="val 50000"/>
              <a:gd name="adj2" fmla="val 4646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648320" y="2057400"/>
            <a:ext cx="228600" cy="380880"/>
          </a:xfrm>
          <a:prstGeom prst="upDownArrow">
            <a:avLst>
              <a:gd name="adj1" fmla="val 50000"/>
              <a:gd name="adj2" fmla="val 3316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553080" y="27432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24080" y="2743200"/>
            <a:ext cx="228600" cy="380880"/>
          </a:xfrm>
          <a:prstGeom prst="upDownArrow">
            <a:avLst>
              <a:gd name="adj1" fmla="val 50000"/>
              <a:gd name="adj2" fmla="val 33169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124080" y="5029200"/>
            <a:ext cx="609840" cy="228600"/>
          </a:xfrm>
          <a:prstGeom prst="leftRightArrow">
            <a:avLst>
              <a:gd name="adj1" fmla="val 50000"/>
              <a:gd name="adj2" fmla="val 5310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4572000"/>
            <a:ext cx="228600" cy="2286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14400" y="1676520"/>
            <a:ext cx="7696080" cy="380880"/>
          </a:xfrm>
          <a:prstGeom prst="flowChartProcess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OF-1147, JavaTM Technology and WebDAV: Standardizing Content Managem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CD518-A448-4F7F-8731-F10F015B5D8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1828800" y="4800600"/>
            <a:ext cx="3048120" cy="1465200"/>
            <a:chOff x="1828800" y="4800600"/>
            <a:chExt cx="3048120" cy="1465200"/>
          </a:xfrm>
        </p:grpSpPr>
        <p:sp>
          <p:nvSpPr>
            <p:cNvPr id="193" name=""/>
            <p:cNvSpPr/>
            <p:nvPr/>
          </p:nvSpPr>
          <p:spPr>
            <a:xfrm>
              <a:off x="1828800" y="4800600"/>
              <a:ext cx="3048120" cy="1465200"/>
            </a:xfrm>
            <a:prstGeom prst="rect">
              <a:avLst/>
            </a:prstGeom>
            <a:solidFill>
              <a:srgbClr val="d4d6b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388320" y="4800600"/>
              <a:ext cx="1488240" cy="3049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DB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1828800" y="2286000"/>
            <a:ext cx="3048120" cy="838080"/>
            <a:chOff x="1828800" y="2286000"/>
            <a:chExt cx="3048120" cy="838080"/>
          </a:xfrm>
        </p:grpSpPr>
        <p:sp>
          <p:nvSpPr>
            <p:cNvPr id="196" name=""/>
            <p:cNvSpPr/>
            <p:nvPr/>
          </p:nvSpPr>
          <p:spPr>
            <a:xfrm>
              <a:off x="1828800" y="2286000"/>
              <a:ext cx="3048120" cy="838080"/>
            </a:xfrm>
            <a:prstGeom prst="rect">
              <a:avLst/>
            </a:prstGeom>
            <a:solidFill>
              <a:srgbClr val="d4d6b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317040" y="2286000"/>
              <a:ext cx="1559520" cy="3049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lesys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Slide Namespace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19320" y="1828800"/>
            <a:ext cx="990360" cy="22860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81080" y="2362320"/>
            <a:ext cx="990720" cy="22860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fi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743200" y="2819520"/>
            <a:ext cx="990720" cy="22860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files/foo.t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981080" y="3429000"/>
            <a:ext cx="990720" cy="22860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a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743200" y="3886200"/>
            <a:ext cx="1143000" cy="22860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actions/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4343400"/>
            <a:ext cx="1143000" cy="22860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actions/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81080" y="4952880"/>
            <a:ext cx="990720" cy="22860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us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743200" y="5410080"/>
            <a:ext cx="990720" cy="22860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users/ro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5867280"/>
            <a:ext cx="990720" cy="22860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users/joh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8" name=""/>
          <p:cNvCxnSpPr>
            <a:stCxn id="199" idx="2"/>
            <a:endCxn id="200" idx="1"/>
          </p:cNvCxnSpPr>
          <p:nvPr/>
        </p:nvCxnSpPr>
        <p:spPr>
          <a:xfrm flipH="1" rot="16200000">
            <a:off x="1638360" y="2133360"/>
            <a:ext cx="4197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9" name=""/>
          <p:cNvCxnSpPr>
            <a:stCxn id="199" idx="2"/>
            <a:endCxn id="202" idx="1"/>
          </p:cNvCxnSpPr>
          <p:nvPr/>
        </p:nvCxnSpPr>
        <p:spPr>
          <a:xfrm flipH="1" rot="16200000">
            <a:off x="1104840" y="2666880"/>
            <a:ext cx="148680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0" name=""/>
          <p:cNvCxnSpPr>
            <a:stCxn id="199" idx="2"/>
            <a:endCxn id="205" idx="1"/>
          </p:cNvCxnSpPr>
          <p:nvPr/>
        </p:nvCxnSpPr>
        <p:spPr>
          <a:xfrm flipH="1" rot="16200000">
            <a:off x="342720" y="3428640"/>
            <a:ext cx="301068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1" name=""/>
          <p:cNvCxnSpPr>
            <a:stCxn id="200" idx="2"/>
            <a:endCxn id="201" idx="1"/>
          </p:cNvCxnSpPr>
          <p:nvPr/>
        </p:nvCxnSpPr>
        <p:spPr>
          <a:xfrm flipH="1" rot="16200000">
            <a:off x="2437200" y="2628720"/>
            <a:ext cx="3434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2" name=""/>
          <p:cNvCxnSpPr>
            <a:stCxn id="202" idx="2"/>
            <a:endCxn id="203" idx="1"/>
          </p:cNvCxnSpPr>
          <p:nvPr/>
        </p:nvCxnSpPr>
        <p:spPr>
          <a:xfrm flipH="1" rot="16200000">
            <a:off x="2436840" y="3695400"/>
            <a:ext cx="34380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3" name=""/>
          <p:cNvCxnSpPr>
            <a:stCxn id="202" idx="2"/>
            <a:endCxn id="204" idx="1"/>
          </p:cNvCxnSpPr>
          <p:nvPr/>
        </p:nvCxnSpPr>
        <p:spPr>
          <a:xfrm flipH="1" rot="16200000">
            <a:off x="2208240" y="3924000"/>
            <a:ext cx="80100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4" name=""/>
          <p:cNvCxnSpPr>
            <a:stCxn id="205" idx="2"/>
            <a:endCxn id="206" idx="1"/>
          </p:cNvCxnSpPr>
          <p:nvPr/>
        </p:nvCxnSpPr>
        <p:spPr>
          <a:xfrm flipH="1" rot="16200000">
            <a:off x="2436840" y="5219280"/>
            <a:ext cx="34380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5" name=""/>
          <p:cNvCxnSpPr>
            <a:stCxn id="205" idx="2"/>
            <a:endCxn id="207" idx="1"/>
          </p:cNvCxnSpPr>
          <p:nvPr/>
        </p:nvCxnSpPr>
        <p:spPr>
          <a:xfrm flipH="1" rot="16200000">
            <a:off x="2208240" y="5447880"/>
            <a:ext cx="80100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6" name=""/>
          <p:cNvGrpSpPr/>
          <p:nvPr/>
        </p:nvGrpSpPr>
        <p:grpSpPr>
          <a:xfrm>
            <a:off x="2971440" y="2362320"/>
            <a:ext cx="5181840" cy="228600"/>
            <a:chOff x="2971440" y="2362320"/>
            <a:chExt cx="5181840" cy="228600"/>
          </a:xfrm>
        </p:grpSpPr>
        <p:sp>
          <p:nvSpPr>
            <p:cNvPr id="217" name=""/>
            <p:cNvSpPr/>
            <p:nvPr/>
          </p:nvSpPr>
          <p:spPr>
            <a:xfrm>
              <a:off x="4191120" y="2362320"/>
              <a:ext cx="3962160" cy="228600"/>
            </a:xfrm>
            <a:prstGeom prst="roundRect">
              <a:avLst>
                <a:gd name="adj" fmla="val 16667"/>
              </a:avLst>
            </a:prstGeom>
            <a:solidFill>
              <a:srgbClr val="d4d6b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/users can do /actions/re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2362320"/>
              <a:ext cx="541080" cy="2286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9" name=""/>
            <p:cNvCxnSpPr>
              <a:stCxn id="200" idx="3"/>
              <a:endCxn id="218" idx="1"/>
            </p:cNvCxnSpPr>
            <p:nvPr/>
          </p:nvCxnSpPr>
          <p:spPr>
            <a:xfrm>
              <a:off x="2971440" y="2476080"/>
              <a:ext cx="1220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220" name=""/>
          <p:cNvGrpSpPr/>
          <p:nvPr/>
        </p:nvGrpSpPr>
        <p:grpSpPr>
          <a:xfrm>
            <a:off x="2209680" y="1828800"/>
            <a:ext cx="5943600" cy="228600"/>
            <a:chOff x="2209680" y="1828800"/>
            <a:chExt cx="5943600" cy="228600"/>
          </a:xfrm>
        </p:grpSpPr>
        <p:sp>
          <p:nvSpPr>
            <p:cNvPr id="221" name=""/>
            <p:cNvSpPr/>
            <p:nvPr/>
          </p:nvSpPr>
          <p:spPr>
            <a:xfrm>
              <a:off x="4191120" y="1828800"/>
              <a:ext cx="3962160" cy="228600"/>
            </a:xfrm>
            <a:prstGeom prst="roundRect">
              <a:avLst>
                <a:gd name="adj" fmla="val 16667"/>
              </a:avLst>
            </a:prstGeom>
            <a:solidFill>
              <a:srgbClr val="d4d6b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/users/root can do /ac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91120" y="1828800"/>
              <a:ext cx="533160" cy="2286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199" idx="3"/>
              <a:endCxn id="222" idx="1"/>
            </p:cNvCxnSpPr>
            <p:nvPr/>
          </p:nvCxnSpPr>
          <p:spPr>
            <a:xfrm>
              <a:off x="2209680" y="1942920"/>
              <a:ext cx="19821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224" name=""/>
          <p:cNvGrpSpPr/>
          <p:nvPr/>
        </p:nvGrpSpPr>
        <p:grpSpPr>
          <a:xfrm>
            <a:off x="3733920" y="2819520"/>
            <a:ext cx="4419360" cy="228600"/>
            <a:chOff x="3733920" y="2819520"/>
            <a:chExt cx="4419360" cy="228600"/>
          </a:xfrm>
        </p:grpSpPr>
        <p:sp>
          <p:nvSpPr>
            <p:cNvPr id="225" name=""/>
            <p:cNvSpPr/>
            <p:nvPr/>
          </p:nvSpPr>
          <p:spPr>
            <a:xfrm>
              <a:off x="4191120" y="2819520"/>
              <a:ext cx="3962160" cy="228600"/>
            </a:xfrm>
            <a:prstGeom prst="roundRect">
              <a:avLst>
                <a:gd name="adj" fmla="val 16667"/>
              </a:avLst>
            </a:prstGeom>
            <a:solidFill>
              <a:srgbClr val="d4d6b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/users/root for /ac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191120" y="2819520"/>
              <a:ext cx="533160" cy="228600"/>
            </a:xfrm>
            <a:prstGeom prst="roundRect">
              <a:avLst>
                <a:gd name="adj" fmla="val 16667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o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7" name=""/>
            <p:cNvCxnSpPr>
              <a:stCxn id="201" idx="3"/>
              <a:endCxn id="226" idx="1"/>
            </p:cNvCxnSpPr>
            <p:nvPr/>
          </p:nvCxnSpPr>
          <p:spPr>
            <a:xfrm>
              <a:off x="3733920" y="2933280"/>
              <a:ext cx="457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228" name=""/>
          <p:cNvSpPr/>
          <p:nvPr/>
        </p:nvSpPr>
        <p:spPr>
          <a:xfrm>
            <a:off x="5105520" y="4038480"/>
            <a:ext cx="34290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s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L inheri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ks inheri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OF-1147, JavaTM Technology and WebDAV: Standardizing Content Managem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D8A15-1078-4D06-9D0D-1D7E6BA4663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Features Summary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 awar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abs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actional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rietary Java A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s based WebDAV “API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OF-1147, JavaTM Technology and WebDAV: Standardizing Content Manage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D25C3-E9A9-4C4C-BF4C-C3C9C460435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Speaker’s Qualifications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7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leader of Software AG’s “Tamino WebDAV Serve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 of the WebDAV implementation “Jakarta Slide” and maintain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ly contributing to Jakarta-Slide (commi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ly contributing to Jakarta-Tomcat (commi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ence on the subject of databases and repositories for more than 15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6629400"/>
            <a:ext cx="533520" cy="228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705720"/>
            <a:ext cx="533520" cy="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5050"/>
                </a:solidFill>
                <a:latin typeface="Arial Narrow"/>
              </a:rPr>
              <a:t>Beginn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OF-1147, JavaTM Technology and WebDAV: Standardizing Content Manage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00229-C4AD-4493-9F5C-2704397D08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flow based en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s and not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xing and searching 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 ease of deployment (installation, configu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 manage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ta V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OF-1147, JavaTM Technology and WebDAV: Standardizing Content Manage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F4129-2FE7-44E0-9C55-BCE39EC4968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Online Resources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jakarta.apache.org/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developer mailing 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ghtly and release bui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OF-1147, JavaTM Technology and WebDAV: Standardizing Content Manage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6D9AA-D59C-44E3-AC20-C8399308315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066680" y="4191120"/>
            <a:ext cx="6324840" cy="76176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9898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990360" y="17524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WebDA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37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bDAV go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37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jor benef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37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akarta Slide proj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mino WebDAV Server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e de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Presentation Agenda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6629400"/>
            <a:ext cx="533520" cy="228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6705720"/>
            <a:ext cx="533520" cy="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5050"/>
                </a:solidFill>
                <a:latin typeface="Arial Narrow"/>
              </a:rPr>
              <a:t>Beginn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OF-1147, JavaTM Technology and WebDAV: Standardizing Content Manage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52796-8BD0-46D4-A1C3-09CA0840E79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Three Tier Architecture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1143000" y="1828800"/>
            <a:ext cx="7620120" cy="4114080"/>
            <a:chOff x="1143000" y="1828800"/>
            <a:chExt cx="7620120" cy="4114080"/>
          </a:xfrm>
        </p:grpSpPr>
        <p:sp>
          <p:nvSpPr>
            <p:cNvPr id="242" name="File"/>
            <p:cNvSpPr/>
            <p:nvPr/>
          </p:nvSpPr>
          <p:spPr>
            <a:xfrm>
              <a:off x="3387600" y="2481480"/>
              <a:ext cx="2845440" cy="125496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488240" y="1828800"/>
              <a:ext cx="1939320" cy="7765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1421640" y="4937760"/>
              <a:ext cx="1738800" cy="97056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ier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3457440" y="4923360"/>
              <a:ext cx="2735640" cy="101916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ier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6433560" y="4937760"/>
              <a:ext cx="2076840" cy="97056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ier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143000" y="4813920"/>
              <a:ext cx="762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3" idx="6"/>
              <a:endCxn id="242" idx="6"/>
            </p:cNvCxnSpPr>
            <p:nvPr/>
          </p:nvCxnSpPr>
          <p:spPr>
            <a:xfrm>
              <a:off x="3427560" y="2217240"/>
              <a:ext cx="1406880" cy="451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49" name=""/>
            <p:cNvSpPr/>
            <p:nvPr/>
          </p:nvSpPr>
          <p:spPr>
            <a:xfrm>
              <a:off x="3626640" y="1839240"/>
              <a:ext cx="122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ebDA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0" name=""/>
            <p:cNvCxnSpPr>
              <a:stCxn id="242" idx="7"/>
              <a:endCxn id="251" idx="1"/>
            </p:cNvCxnSpPr>
            <p:nvPr/>
          </p:nvCxnSpPr>
          <p:spPr>
            <a:xfrm>
              <a:off x="6233040" y="3109680"/>
              <a:ext cx="1348920" cy="700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2" name=""/>
            <p:cNvSpPr/>
            <p:nvPr/>
          </p:nvSpPr>
          <p:spPr>
            <a:xfrm>
              <a:off x="6518160" y="2764440"/>
              <a:ext cx="84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TT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353760" y="2956680"/>
              <a:ext cx="291312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0360" bIns="9036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amino WebDAV 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923160" y="3809520"/>
              <a:ext cx="1315800" cy="881280"/>
            </a:xfrm>
            <a:prstGeom prst="can">
              <a:avLst>
                <a:gd name="adj" fmla="val 25000"/>
              </a:avLst>
            </a:prstGeom>
            <a:solidFill>
              <a:srgbClr val="ff66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0360" bIns="9036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ami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OF-1147, JavaTM Technology and WebDAV: Standardizing Content Managem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EFC17-5CF8-4C6B-97EE-CCE24433A4C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590920" y="5486400"/>
            <a:ext cx="3821040" cy="685800"/>
          </a:xfrm>
          <a:prstGeom prst="rect">
            <a:avLst/>
          </a:prstGeom>
          <a:solidFill>
            <a:srgbClr val="ff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mino WebDAV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Architecture Details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6" name="File"/>
          <p:cNvSpPr/>
          <p:nvPr/>
        </p:nvSpPr>
        <p:spPr>
          <a:xfrm>
            <a:off x="2589120" y="2641680"/>
            <a:ext cx="3829320" cy="28382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985680" y="1600200"/>
            <a:ext cx="1930680" cy="8049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8" name=""/>
          <p:cNvCxnSpPr>
            <a:stCxn id="257" idx="4"/>
            <a:endCxn id="256" idx="6"/>
          </p:cNvCxnSpPr>
          <p:nvPr/>
        </p:nvCxnSpPr>
        <p:spPr>
          <a:xfrm flipH="1" rot="16200000">
            <a:off x="1442160" y="2913840"/>
            <a:ext cx="1656360" cy="63828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9" name=""/>
          <p:cNvSpPr/>
          <p:nvPr/>
        </p:nvSpPr>
        <p:spPr>
          <a:xfrm>
            <a:off x="788760" y="32972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DA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"/>
          <p:cNvCxnSpPr>
            <a:stCxn id="256" idx="7"/>
            <a:endCxn id="261" idx="1"/>
          </p:cNvCxnSpPr>
          <p:nvPr/>
        </p:nvCxnSpPr>
        <p:spPr>
          <a:xfrm>
            <a:off x="6418440" y="4060800"/>
            <a:ext cx="1767600" cy="51984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7288560" y="361944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818800" y="3722040"/>
            <a:ext cx="30528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0360" bIns="90360" anchor="t" vert="eaVer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04600" y="3732840"/>
            <a:ext cx="305280" cy="10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0360" bIns="90360" anchor="t" vert="eaVer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mc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482800" y="3199320"/>
            <a:ext cx="673560" cy="22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0360" bIns="90360" anchor="t" vert="eaVer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mino WebDA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62520" y="3200400"/>
            <a:ext cx="0" cy="2219400"/>
          </a:xfrm>
          <a:prstGeom prst="line">
            <a:avLst/>
          </a:prstGeom>
          <a:ln w="1260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90360" bIns="90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76720" y="3200400"/>
            <a:ext cx="0" cy="2219400"/>
          </a:xfrm>
          <a:prstGeom prst="line">
            <a:avLst/>
          </a:prstGeom>
          <a:ln w="1260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90360" bIns="90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4120" y="3200400"/>
            <a:ext cx="0" cy="2219400"/>
          </a:xfrm>
          <a:prstGeom prst="line">
            <a:avLst/>
          </a:prstGeom>
          <a:ln w="1260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90360" bIns="90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529400" y="4579920"/>
            <a:ext cx="1309680" cy="1120680"/>
          </a:xfrm>
          <a:prstGeom prst="can">
            <a:avLst>
              <a:gd name="adj" fmla="val 25000"/>
            </a:avLst>
          </a:prstGeom>
          <a:solidFill>
            <a:srgbClr val="ff66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0360" bIns="9036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m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471920" y="3115080"/>
            <a:ext cx="426960" cy="23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0360" bIns="90360" anchor="t" vert="eaVer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karta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OF-1147, JavaTM Technology and WebDAV: Standardizing Content Managem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7A706-7FD4-4DE6-BD95-F52CD5839A1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066680" y="4800600"/>
            <a:ext cx="6324840" cy="76212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9898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990360" y="17524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WebDA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37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bDAV go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37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jor benef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37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akarta Slide proj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mino WebDAV Server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e de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Presentation Agenda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6629400"/>
            <a:ext cx="533520" cy="228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6705720"/>
            <a:ext cx="533520" cy="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5050"/>
                </a:solidFill>
                <a:latin typeface="Arial Narrow"/>
              </a:rPr>
              <a:t>Beginn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OF-1147, JavaTM Technology and WebDAV: Standardizing Content Manage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98D44-4899-4B58-B2E4-56A17FFA6A2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MS File Explorer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762120" y="1566720"/>
            <a:ext cx="7619760" cy="437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OF-1147, JavaTM Technology and WebDAV: Standardizing Content Managem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867AB-16AE-4A16-82A8-E1B5238B9AD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MS Office 2000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762120" y="1523880"/>
            <a:ext cx="7543800" cy="4419720"/>
            <a:chOff x="762120" y="1523880"/>
            <a:chExt cx="7543800" cy="4419720"/>
          </a:xfrm>
        </p:grpSpPr>
        <p:pic>
          <p:nvPicPr>
            <p:cNvPr id="279" name="" descr=""/>
            <p:cNvPicPr/>
            <p:nvPr/>
          </p:nvPicPr>
          <p:blipFill>
            <a:blip r:embed="rId1"/>
            <a:stretch/>
          </p:blipFill>
          <p:spPr>
            <a:xfrm>
              <a:off x="762120" y="1523880"/>
              <a:ext cx="7543800" cy="441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" descr=""/>
            <p:cNvPicPr/>
            <p:nvPr/>
          </p:nvPicPr>
          <p:blipFill>
            <a:blip r:embed="rId2"/>
            <a:stretch/>
          </p:blipFill>
          <p:spPr>
            <a:xfrm>
              <a:off x="2817000" y="2494800"/>
              <a:ext cx="5128920" cy="3115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OF-1147, JavaTM Technology and WebDAV: Standardizing Content Managem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E60A5-31C9-4F5E-ACB9-F8B3FE86364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XML Spy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62120" y="1562040"/>
            <a:ext cx="8076960" cy="434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OF-1147, JavaTM Technology and WebDAV: Standardizing Content Managem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AA372-F795-4978-AC1F-48CD60E7ABC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WebDrive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5838840" cy="492120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3048120" y="2994120"/>
            <a:ext cx="4647960" cy="317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OF-1147, JavaTM Technology and WebDAV: Standardizing Content Managem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41CAE-1FB9-4F5A-88FF-F4D25C383E1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066680" y="1752480"/>
            <a:ext cx="6324840" cy="190512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9898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Presentation Agenda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6629400"/>
            <a:ext cx="533520" cy="228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705720"/>
            <a:ext cx="533520" cy="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5050"/>
                </a:solidFill>
                <a:latin typeface="Arial Narrow"/>
              </a:rPr>
              <a:t>Beginn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WebDA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37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bDAV go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37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jor benef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37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akarta Slide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mino WebDAV Server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e de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OF-1147, JavaTM Technology and WebDAV: Standardizing Content Manage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FDA0C-2C00-4FE8-96E0-6EFFDEF0869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DAV is a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DAV is a HTTP ex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karta Slide is a pluggable WebDAV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DAV clients are easily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6629400"/>
            <a:ext cx="533520" cy="2286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6705720"/>
            <a:ext cx="533520" cy="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2b2b2"/>
                </a:solidFill>
                <a:latin typeface="Arial Narrow"/>
              </a:rPr>
              <a:t>E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File"/>
          <p:cNvSpPr/>
          <p:nvPr/>
        </p:nvSpPr>
        <p:spPr>
          <a:xfrm>
            <a:off x="2286000" y="4419720"/>
            <a:ext cx="4495680" cy="19047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The world is a folde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OF-1147, JavaTM Technology and WebDAV: Standardizing Content Manage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4BDAB-3F83-48DD-B466-30AD4705EFA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Q&amp;A" descr=""/>
          <p:cNvPicPr/>
          <p:nvPr/>
        </p:nvPicPr>
        <p:blipFill>
          <a:blip r:embed="rId1"/>
          <a:stretch/>
        </p:blipFill>
        <p:spPr>
          <a:xfrm>
            <a:off x="2679840" y="2971800"/>
            <a:ext cx="3263760" cy="1685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BOF-1147, JavaTM Technology and WebDAV: Standardizing Content Manageme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237-215-32_yellow" descr=""/>
          <p:cNvPicPr/>
          <p:nvPr/>
        </p:nvPicPr>
        <p:blipFill>
          <a:blip r:embed="rId1"/>
          <a:stretch/>
        </p:blipFill>
        <p:spPr>
          <a:xfrm>
            <a:off x="1828800" y="0"/>
            <a:ext cx="7315200" cy="6858000"/>
          </a:xfrm>
          <a:prstGeom prst="rect">
            <a:avLst/>
          </a:prstGeom>
          <a:ln w="0">
            <a:noFill/>
          </a:ln>
        </p:spPr>
      </p:pic>
      <p:pic>
        <p:nvPicPr>
          <p:cNvPr id="293" name="100-52-133__purple" descr=""/>
          <p:cNvPicPr/>
          <p:nvPr/>
        </p:nvPicPr>
        <p:blipFill>
          <a:blip r:embed="rId2"/>
          <a:stretch/>
        </p:blipFill>
        <p:spPr>
          <a:xfrm>
            <a:off x="0" y="0"/>
            <a:ext cx="1828800" cy="6858000"/>
          </a:xfrm>
          <a:prstGeom prst="rect">
            <a:avLst/>
          </a:prstGeom>
          <a:ln w="0">
            <a:noFill/>
          </a:ln>
        </p:spPr>
      </p:pic>
      <p:pic>
        <p:nvPicPr>
          <p:cNvPr id="294" name="logo_JavaOne-Splash" descr=""/>
          <p:cNvPicPr/>
          <p:nvPr/>
        </p:nvPicPr>
        <p:blipFill>
          <a:blip r:embed="rId3"/>
          <a:stretch/>
        </p:blipFill>
        <p:spPr>
          <a:xfrm>
            <a:off x="3124080" y="1598760"/>
            <a:ext cx="3875040" cy="2973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OF-1147, JavaTM Technology and WebDAV: Standardizing Content Managemen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7F4E6-443B-464B-93EE-0AF196CEE46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WebDAV Definition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Arial"/>
              </a:rPr>
              <a:t>We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based </a:t>
            </a:r>
            <a:r>
              <a:rPr b="1" lang="en-US" sz="2400" spc="-1" strike="noStrike">
                <a:solidFill>
                  <a:srgbClr val="666699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tributed </a:t>
            </a:r>
            <a:r>
              <a:rPr b="1" lang="en-US" sz="2400" spc="-1" strike="noStrike">
                <a:solidFill>
                  <a:srgbClr val="666699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horing and </a:t>
            </a:r>
            <a:r>
              <a:rPr b="1" lang="en-US" sz="2400" spc="-1" strike="noStrike">
                <a:solidFill>
                  <a:srgbClr val="666699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s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5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fficial WebDAV working group go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Define the HTTP extensions necessary to enable distributed web authoring tools to be broadly interoperable, while supporting user need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5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the web a writable, collaborative med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5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n Internet Fil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5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 interoperability of tools for distributed web auth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OF-1147, JavaTM Technology and WebDAV: Standardizing Content Manage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831A3-5215-42DA-9F77-896CFE0925C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WebDAV Benefits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space management </a:t>
            </a:r>
            <a:r>
              <a:rPr b="1" lang="en-US" sz="2800" spc="-1" strike="noStrike">
                <a:solidFill>
                  <a:srgbClr val="666699"/>
                </a:solidFill>
                <a:latin typeface="Arial"/>
              </a:rPr>
              <a:t>(Collec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964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rastructure for remote management, organization and viewing of resour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ility of metadata </a:t>
            </a:r>
            <a:r>
              <a:rPr b="1" lang="en-US" sz="2800" spc="-1" strike="noStrike">
                <a:solidFill>
                  <a:srgbClr val="666699"/>
                </a:solidFill>
                <a:latin typeface="Arial"/>
              </a:rPr>
              <a:t>(Propert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964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rastructure for recording information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abo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Web cont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Arial"/>
              </a:rPr>
              <a:t>Lock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964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remote, collaborative authoring of any media type (HTML, images, presentations, et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Arial"/>
              </a:rPr>
              <a:t>Version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964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rastructure for versioned resour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OF-1147, JavaTM Technology and WebDAV: Standardizing Content Manage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C5B13-EE87-4CA2-8306-C24FC5AF7A9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WebDAV - Collections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75000"/>
              </a:lnSpc>
              <a:spcBef>
                <a:spcPts val="15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75000"/>
              </a:lnSpc>
              <a:spcBef>
                <a:spcPts val="964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collection of resources and colle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75000"/>
              </a:lnSpc>
              <a:spcBef>
                <a:spcPts val="964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collection is also a resour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75000"/>
              </a:lnSpc>
              <a:spcBef>
                <a:spcPts val="964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be thought of as a “file system folder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75000"/>
              </a:lnSpc>
              <a:spcBef>
                <a:spcPts val="15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75000"/>
              </a:lnSpc>
              <a:spcBef>
                <a:spcPts val="964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ic name for collections or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member resour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75000"/>
              </a:lnSpc>
              <a:spcBef>
                <a:spcPts val="15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ber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75000"/>
              </a:lnSpc>
              <a:spcBef>
                <a:spcPts val="964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aves” in a URL namesp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75000"/>
              </a:lnSpc>
              <a:spcBef>
                <a:spcPts val="964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y be documents of any format or any other media type such as im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75000"/>
              </a:lnSpc>
              <a:spcBef>
                <a:spcPts val="15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DAV provides mechanisms to create, move, copy, and delete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OF-1147, JavaTM Technology and WebDAV: Standardizing Content Manage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5D0AE-5FBA-4BA5-8923-AE46EFC11D7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WebDAV - Properties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15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erties are pairs of name and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75000"/>
              </a:lnSpc>
              <a:spcBef>
                <a:spcPts val="964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mes are uniquely identified with UR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75000"/>
              </a:lnSpc>
              <a:spcBef>
                <a:spcPts val="964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s may be well-formed XML frag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75000"/>
              </a:lnSpc>
              <a:spcBef>
                <a:spcPts val="15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resources have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75000"/>
              </a:lnSpc>
              <a:spcBef>
                <a:spcPts val="964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les and directo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75000"/>
              </a:lnSpc>
              <a:spcBef>
                <a:spcPts val="964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rver-defined/maintained (“live properties”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on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 Mod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75000"/>
              </a:lnSpc>
              <a:spcBef>
                <a:spcPts val="964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ent-defined (“dead properties”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OF-1147, JavaTM Technology and WebDAV: Standardizing Content Manage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A4458-E065-4C83-9A21-608A8FA4DE4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WebDAV – Overwrite Protection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king a resource returns a lock tok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5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wner of a lock token can modify the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5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ks have characteristics such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64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64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wn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64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p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5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s may be locked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lu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OF-1147, JavaTM Technology and WebDAV: Standardizing Content Manage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C6EA4-7187-408D-8F1E-2698E148E40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WebDAV - Versioning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ing allow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37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 in/out with comment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37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rsion graphs and histo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37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owse/retrieve old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37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gh-level configuration manag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5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ing is not yet standardized – a work in progress – draft is available at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ietf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OF-1147, JavaTM Technology and WebDAV: Standardizing Content Manage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35828-B471-4EEE-9164-0AF84604D2F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5T21:02:18Z</dcterms:created>
  <dc:creator>Andrew Penick</dc:creator>
  <dc:description/>
  <dc:language>en-US</dc:language>
  <cp:lastModifiedBy>Foo</cp:lastModifiedBy>
  <dcterms:modified xsi:type="dcterms:W3CDTF">2001-06-07T22:30:28Z</dcterms:modified>
  <cp:revision>140</cp:revision>
  <dc:subject/>
  <dc:title>No Slide Title</dc:title>
</cp:coreProperties>
</file>