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FACE0-D792-4DC0-955A-633F776D3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2840" y="32000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2840" y="5105520"/>
            <a:ext cx="61722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42840" y="5822280"/>
            <a:ext cx="61722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5A67A-6027-4248-8EB2-9A6744D92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32000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42840" y="510552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05440" y="510552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42840" y="582228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05440" y="582228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0D5CD-9F57-4731-94AD-5B8212999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42840" y="32000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42840" y="5105520"/>
            <a:ext cx="19872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9760" y="5105520"/>
            <a:ext cx="19872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16680" y="5105520"/>
            <a:ext cx="19872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42840" y="5822280"/>
            <a:ext cx="19872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829760" y="5822280"/>
            <a:ext cx="19872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16680" y="5822280"/>
            <a:ext cx="19872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D68DD-0785-4BCE-8DFD-90B85E249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2840" y="32000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2840" y="5105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2840" y="32000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2840" y="5105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42840" y="32000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2840" y="5105520"/>
            <a:ext cx="30117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05440" y="5105520"/>
            <a:ext cx="30117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2840" y="32000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742840" y="32000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42840" y="32000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42840" y="510552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05440" y="5105520"/>
            <a:ext cx="30117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742840" y="582228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42840" y="32000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42840" y="5105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B47E-8417-493C-88D8-FF75EA50F4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42840" y="32000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2840" y="5105520"/>
            <a:ext cx="30117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05440" y="510552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05440" y="582228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42840" y="32000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2840" y="510552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05440" y="510552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742840" y="5822280"/>
            <a:ext cx="61722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42840" y="32000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42840" y="5105520"/>
            <a:ext cx="61722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742840" y="5822280"/>
            <a:ext cx="61722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42840" y="32000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42840" y="510552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05440" y="510552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742840" y="582228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05440" y="582228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42840" y="32000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42840" y="5105520"/>
            <a:ext cx="19872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9760" y="5105520"/>
            <a:ext cx="19872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16680" y="5105520"/>
            <a:ext cx="19872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742840" y="5822280"/>
            <a:ext cx="19872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29760" y="5822280"/>
            <a:ext cx="19872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16680" y="5822280"/>
            <a:ext cx="19872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42840" y="32000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2840" y="5105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81695-317F-4D6B-98DC-DFB019732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2840" y="32000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42840" y="5105520"/>
            <a:ext cx="30117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05440" y="5105520"/>
            <a:ext cx="30117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D7D08-081B-4E30-90BC-72775ADD7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32000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1FC35-318E-47F6-9927-173B79146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42840" y="32000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CA541-D75F-4059-97AB-2D0FA767A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32000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42840" y="510552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05440" y="5105520"/>
            <a:ext cx="30117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42840" y="582228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E5A76-FAD3-49B0-A38B-6D8C4D75A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42840" y="32000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42840" y="5105520"/>
            <a:ext cx="30117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05440" y="510552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05440" y="582228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7F60C-30CF-4AB7-99DA-E2B1A01C6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42840" y="32000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42840" y="510552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05440" y="5105520"/>
            <a:ext cx="30117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42840" y="5822280"/>
            <a:ext cx="61722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F72B2-163C-47AD-AA60-89B8239EC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jo02_bullet__02" descr=""/>
          <p:cNvPicPr/>
          <p:nvPr/>
        </p:nvPicPr>
        <p:blipFill>
          <a:blip r:embed="rId2"/>
          <a:stretch/>
        </p:blipFill>
        <p:spPr>
          <a:xfrm>
            <a:off x="533520" y="0"/>
            <a:ext cx="8610480" cy="1371600"/>
          </a:xfrm>
          <a:prstGeom prst="rect">
            <a:avLst/>
          </a:prstGeom>
          <a:ln w="0">
            <a:noFill/>
          </a:ln>
        </p:spPr>
      </p:pic>
      <p:pic>
        <p:nvPicPr>
          <p:cNvPr id="1" name="jo02_bullet__01" descr=""/>
          <p:cNvPicPr/>
          <p:nvPr/>
        </p:nvPicPr>
        <p:blipFill>
          <a:blip r:embed="rId3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jo02_bullet__05" descr=""/>
          <p:cNvPicPr/>
          <p:nvPr/>
        </p:nvPicPr>
        <p:blipFill>
          <a:blip r:embed="rId4"/>
          <a:stretch/>
        </p:blipFill>
        <p:spPr>
          <a:xfrm>
            <a:off x="7772400" y="5905440"/>
            <a:ext cx="137160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13004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629400"/>
            <a:ext cx="0" cy="228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33240" y="6629040"/>
            <a:ext cx="470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22DC-C17F-4D42-BDC8-D9D692F2134F}" type="slidenum">
              <a:rPr b="0" lang="en-US" sz="9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jo02_sectio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42840" y="32000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1828800" y="662904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9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451"/>
              </a:spcBef>
              <a:spcAft>
                <a:spcPts val="751"/>
              </a:spcAft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451"/>
              </a:spcBef>
              <a:spcAft>
                <a:spcPts val="751"/>
              </a:spcAft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jo02_title" descr=""/>
          <p:cNvPicPr/>
          <p:nvPr/>
        </p:nvPicPr>
        <p:blipFill>
          <a:blip r:embed="rId1"/>
          <a:stretch/>
        </p:blipFill>
        <p:spPr>
          <a:xfrm>
            <a:off x="2068560" y="947880"/>
            <a:ext cx="7075440" cy="1614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2840" y="3200040"/>
            <a:ext cx="6172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Implementing WebDAV Using J2EE</a:t>
            </a:r>
            <a:r>
              <a:rPr b="1" lang="en-US" sz="3800" spc="-1" strike="noStrike" baseline="30000">
                <a:solidFill>
                  <a:srgbClr val="cc0000"/>
                </a:solidFill>
                <a:latin typeface="Arial"/>
              </a:rPr>
              <a:t>TM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 and Open Source Technologies</a:t>
            </a:r>
            <a:br>
              <a:rPr sz="3800"/>
            </a:b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502920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ergen Pi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am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er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ftware A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5029200"/>
            <a:ext cx="3048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my Maucher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ftware Engine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n Micro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ssion #248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191120" y="1905120"/>
            <a:ext cx="3047760" cy="3962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1905120"/>
            <a:ext cx="304776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905120"/>
            <a:ext cx="1447920" cy="3962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1905120"/>
            <a:ext cx="144792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elta-V Versioning Schema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700680"/>
            <a:ext cx="53352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00"/>
                </a:solidFill>
                <a:latin typeface="Arial Narrow"/>
              </a:rPr>
              <a:t>Midd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5181480"/>
            <a:ext cx="609480" cy="487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5105520"/>
            <a:ext cx="609480" cy="487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343400"/>
            <a:ext cx="609480" cy="487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3505320"/>
            <a:ext cx="609480" cy="487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4267080"/>
            <a:ext cx="609480" cy="487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3429000"/>
            <a:ext cx="609480" cy="487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2666880"/>
            <a:ext cx="609480" cy="487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2666880"/>
            <a:ext cx="609480" cy="487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2120" y="198108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2120" y="19810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th Bran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1" idx="0"/>
            <a:endCxn id="183" idx="4"/>
          </p:cNvCxnSpPr>
          <p:nvPr/>
        </p:nvCxnSpPr>
        <p:spPr>
          <a:xfrm flipV="1">
            <a:off x="2209320" y="483048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3" idx="0"/>
            <a:endCxn id="184" idx="4"/>
          </p:cNvCxnSpPr>
          <p:nvPr/>
        </p:nvCxnSpPr>
        <p:spPr>
          <a:xfrm flipV="1">
            <a:off x="2209320" y="399204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4" idx="0"/>
            <a:endCxn id="188" idx="4"/>
          </p:cNvCxnSpPr>
          <p:nvPr/>
        </p:nvCxnSpPr>
        <p:spPr>
          <a:xfrm flipV="1">
            <a:off x="2209320" y="315396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6172200" y="4267080"/>
            <a:ext cx="914400" cy="487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2.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3429000"/>
            <a:ext cx="914400" cy="487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2.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2" idx="0"/>
            <a:endCxn id="185" idx="4"/>
          </p:cNvCxnSpPr>
          <p:nvPr/>
        </p:nvCxnSpPr>
        <p:spPr>
          <a:xfrm flipV="1">
            <a:off x="4876560" y="475416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5" idx="0"/>
            <a:endCxn id="186" idx="4"/>
          </p:cNvCxnSpPr>
          <p:nvPr/>
        </p:nvCxnSpPr>
        <p:spPr>
          <a:xfrm flipV="1">
            <a:off x="4876560" y="391608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86" idx="0"/>
            <a:endCxn id="187" idx="4"/>
          </p:cNvCxnSpPr>
          <p:nvPr/>
        </p:nvCxnSpPr>
        <p:spPr>
          <a:xfrm flipV="1">
            <a:off x="4876560" y="3153600"/>
            <a:ext cx="1080" cy="27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85" idx="6"/>
            <a:endCxn id="194" idx="2"/>
          </p:cNvCxnSpPr>
          <p:nvPr/>
        </p:nvCxnSpPr>
        <p:spPr>
          <a:xfrm>
            <a:off x="5181480" y="4511160"/>
            <a:ext cx="99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4" idx="0"/>
            <a:endCxn id="195" idx="4"/>
          </p:cNvCxnSpPr>
          <p:nvPr/>
        </p:nvCxnSpPr>
        <p:spPr>
          <a:xfrm flipV="1">
            <a:off x="6629040" y="3916080"/>
            <a:ext cx="10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95" idx="1"/>
            <a:endCxn id="187" idx="5"/>
          </p:cNvCxnSpPr>
          <p:nvPr/>
        </p:nvCxnSpPr>
        <p:spPr>
          <a:xfrm flipH="1" flipV="1">
            <a:off x="5091840" y="3082320"/>
            <a:ext cx="121356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5028840" y="411480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80400" y="320040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F9881-5920-489B-AC4D-99E05988AF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elta-V Explicit Versioning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6700680"/>
            <a:ext cx="53352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00"/>
                </a:solidFill>
                <a:latin typeface="Arial Narrow"/>
              </a:rPr>
              <a:t>Midd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96920" y="1828800"/>
            <a:ext cx="3276720" cy="1981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3124080"/>
            <a:ext cx="45576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1981080"/>
            <a:ext cx="45576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1981080"/>
            <a:ext cx="45576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72880" y="22096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560" y="19051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39560" y="3429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09" idx="2"/>
            <a:endCxn id="210" idx="6"/>
          </p:cNvCxnSpPr>
          <p:nvPr/>
        </p:nvCxnSpPr>
        <p:spPr>
          <a:xfrm rot="10800000">
            <a:off x="2055240" y="2161440"/>
            <a:ext cx="11451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09" idx="4"/>
            <a:endCxn id="208" idx="6"/>
          </p:cNvCxnSpPr>
          <p:nvPr/>
        </p:nvCxnSpPr>
        <p:spPr>
          <a:xfrm rot="5400000">
            <a:off x="2679120" y="2555640"/>
            <a:ext cx="964440" cy="535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0" idx="4"/>
            <a:endCxn id="208" idx="2"/>
          </p:cNvCxnSpPr>
          <p:nvPr/>
        </p:nvCxnSpPr>
        <p:spPr>
          <a:xfrm flipH="1" rot="16200000">
            <a:off x="1650600" y="2518200"/>
            <a:ext cx="96444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0" idx="5"/>
            <a:endCxn id="208" idx="1"/>
          </p:cNvCxnSpPr>
          <p:nvPr/>
        </p:nvCxnSpPr>
        <p:spPr>
          <a:xfrm flipH="1" rot="16200000">
            <a:off x="1803240" y="2474280"/>
            <a:ext cx="888120" cy="516960"/>
          </a:xfrm>
          <a:prstGeom prst="curvedConnector5">
            <a:avLst>
              <a:gd name="adj1" fmla="val 49878"/>
              <a:gd name="adj2" fmla="val 49965"/>
              <a:gd name="adj3" fmla="val 498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3351600" y="28195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eck-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20" idx="3"/>
            <a:endCxn id="221" idx="3"/>
          </p:cNvCxnSpPr>
          <p:nvPr/>
        </p:nvCxnSpPr>
        <p:spPr>
          <a:xfrm flipV="1">
            <a:off x="7924320" y="2819160"/>
            <a:ext cx="2520" cy="2134080"/>
          </a:xfrm>
          <a:prstGeom prst="curvedConnector5">
            <a:avLst>
              <a:gd name="adj1" fmla="val 24700000"/>
              <a:gd name="adj2" fmla="val 49991"/>
              <a:gd name="adj3" fmla="val 24700000"/>
            </a:avLst>
          </a:prstGeom>
          <a:ln w="76320">
            <a:solidFill>
              <a:srgbClr val="ccccff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1066680" y="3962520"/>
            <a:ext cx="3276720" cy="1981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5257800"/>
            <a:ext cx="45576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4114800"/>
            <a:ext cx="45576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4114800"/>
            <a:ext cx="45576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72880" y="43434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560" y="40384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9560" y="55627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4" idx="2"/>
            <a:endCxn id="225" idx="6"/>
          </p:cNvCxnSpPr>
          <p:nvPr/>
        </p:nvCxnSpPr>
        <p:spPr>
          <a:xfrm rot="10800000">
            <a:off x="2055240" y="4295160"/>
            <a:ext cx="11451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4" idx="4"/>
            <a:endCxn id="223" idx="6"/>
          </p:cNvCxnSpPr>
          <p:nvPr/>
        </p:nvCxnSpPr>
        <p:spPr>
          <a:xfrm rot="5400000">
            <a:off x="2679120" y="4689360"/>
            <a:ext cx="964440" cy="535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5" idx="4"/>
            <a:endCxn id="223" idx="2"/>
          </p:cNvCxnSpPr>
          <p:nvPr/>
        </p:nvCxnSpPr>
        <p:spPr>
          <a:xfrm flipH="1" rot="16200000">
            <a:off x="1650600" y="4651920"/>
            <a:ext cx="96444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5" idx="5"/>
            <a:endCxn id="223" idx="1"/>
          </p:cNvCxnSpPr>
          <p:nvPr/>
        </p:nvCxnSpPr>
        <p:spPr>
          <a:xfrm flipH="1" rot="16200000">
            <a:off x="1803240" y="4608000"/>
            <a:ext cx="888480" cy="516960"/>
          </a:xfrm>
          <a:prstGeom prst="curvedConnector5">
            <a:avLst>
              <a:gd name="adj1" fmla="val 49898"/>
              <a:gd name="adj2" fmla="val 49965"/>
              <a:gd name="adj3" fmla="val 498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01560" y="49528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check-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1828800"/>
            <a:ext cx="3276360" cy="1981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3124080"/>
            <a:ext cx="45540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81680" y="1981080"/>
            <a:ext cx="45576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1981080"/>
            <a:ext cx="45576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54160" y="22096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14840" y="19051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21200" y="3429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5" idx="2"/>
            <a:endCxn id="236" idx="6"/>
          </p:cNvCxnSpPr>
          <p:nvPr/>
        </p:nvCxnSpPr>
        <p:spPr>
          <a:xfrm rot="10800000">
            <a:off x="5636520" y="2161440"/>
            <a:ext cx="11451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5" idx="4"/>
            <a:endCxn id="242" idx="0"/>
          </p:cNvCxnSpPr>
          <p:nvPr/>
        </p:nvCxnSpPr>
        <p:spPr>
          <a:xfrm flipV="1" rot="10800000">
            <a:off x="7009560" y="2341080"/>
            <a:ext cx="1080" cy="783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6" idx="4"/>
            <a:endCxn id="234" idx="2"/>
          </p:cNvCxnSpPr>
          <p:nvPr/>
        </p:nvCxnSpPr>
        <p:spPr>
          <a:xfrm flipH="1" rot="16200000">
            <a:off x="5232960" y="2517840"/>
            <a:ext cx="96444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6" idx="5"/>
            <a:endCxn id="234" idx="1"/>
          </p:cNvCxnSpPr>
          <p:nvPr/>
        </p:nvCxnSpPr>
        <p:spPr>
          <a:xfrm flipH="1" rot="16200000">
            <a:off x="5383800" y="2474640"/>
            <a:ext cx="888120" cy="516600"/>
          </a:xfrm>
          <a:prstGeom prst="curvedConnector5">
            <a:avLst>
              <a:gd name="adj1" fmla="val 49878"/>
              <a:gd name="adj2" fmla="val 50000"/>
              <a:gd name="adj3" fmla="val 498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7009200" y="25909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check-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3962520"/>
            <a:ext cx="3276360" cy="1981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5257800"/>
            <a:ext cx="45540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1680" y="4114800"/>
            <a:ext cx="45576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4114800"/>
            <a:ext cx="45576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54160" y="43434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14840" y="40384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21200" y="55627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7" idx="2"/>
            <a:endCxn id="248" idx="6"/>
          </p:cNvCxnSpPr>
          <p:nvPr/>
        </p:nvCxnSpPr>
        <p:spPr>
          <a:xfrm rot="10800000">
            <a:off x="5636520" y="4295160"/>
            <a:ext cx="11451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7" idx="4"/>
            <a:endCxn id="246" idx="6"/>
          </p:cNvCxnSpPr>
          <p:nvPr/>
        </p:nvCxnSpPr>
        <p:spPr>
          <a:xfrm rot="5400000">
            <a:off x="6260400" y="4689360"/>
            <a:ext cx="964440" cy="535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8" idx="4"/>
            <a:endCxn id="246" idx="2"/>
          </p:cNvCxnSpPr>
          <p:nvPr/>
        </p:nvCxnSpPr>
        <p:spPr>
          <a:xfrm flipH="1" rot="16200000">
            <a:off x="5232960" y="4651560"/>
            <a:ext cx="96444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8" idx="5"/>
            <a:endCxn id="246" idx="1"/>
          </p:cNvCxnSpPr>
          <p:nvPr/>
        </p:nvCxnSpPr>
        <p:spPr>
          <a:xfrm flipH="1" rot="16200000">
            <a:off x="5383800" y="4608360"/>
            <a:ext cx="888480" cy="516600"/>
          </a:xfrm>
          <a:prstGeom prst="curvedConnector5">
            <a:avLst>
              <a:gd name="adj1" fmla="val 49898"/>
              <a:gd name="adj2" fmla="val 50000"/>
              <a:gd name="adj3" fmla="val 498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6882840" y="49528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eck-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07" idx="1"/>
            <a:endCxn id="222" idx="1"/>
          </p:cNvCxnSpPr>
          <p:nvPr/>
        </p:nvCxnSpPr>
        <p:spPr>
          <a:xfrm flipV="1" rot="10800000">
            <a:off x="1066680" y="2819160"/>
            <a:ext cx="30600" cy="2134080"/>
          </a:xfrm>
          <a:prstGeom prst="curvedConnector5">
            <a:avLst>
              <a:gd name="adj1" fmla="val 867857"/>
              <a:gd name="adj2" fmla="val 49991"/>
              <a:gd name="adj3" fmla="val 867857"/>
            </a:avLst>
          </a:prstGeom>
          <a:ln w="76320">
            <a:solidFill>
              <a:srgbClr val="ccccff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22" idx="2"/>
            <a:endCxn id="220" idx="2"/>
          </p:cNvCxnSpPr>
          <p:nvPr/>
        </p:nvCxnSpPr>
        <p:spPr>
          <a:xfrm flipH="1" rot="16200000">
            <a:off x="4494240" y="4153320"/>
            <a:ext cx="2160" cy="358236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76320">
            <a:solidFill>
              <a:srgbClr val="ccccff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 rot="16200000">
            <a:off x="95040" y="3866400"/>
            <a:ext cx="11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ECCK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5400000">
            <a:off x="8025840" y="3858120"/>
            <a:ext cx="98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ECC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63244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81680" y="3124080"/>
            <a:ext cx="45576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36" idx="5"/>
            <a:endCxn id="242" idx="1"/>
          </p:cNvCxnSpPr>
          <p:nvPr/>
        </p:nvCxnSpPr>
        <p:spPr>
          <a:xfrm flipH="1" rot="16200000">
            <a:off x="5765760" y="2093400"/>
            <a:ext cx="888120" cy="1278720"/>
          </a:xfrm>
          <a:prstGeom prst="curvedConnector5">
            <a:avLst>
              <a:gd name="adj1" fmla="val 49878"/>
              <a:gd name="adj2" fmla="val 49985"/>
              <a:gd name="adj3" fmla="val 498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42" idx="2"/>
            <a:endCxn id="234" idx="6"/>
          </p:cNvCxnSpPr>
          <p:nvPr/>
        </p:nvCxnSpPr>
        <p:spPr>
          <a:xfrm rot="10800000">
            <a:off x="6474600" y="3304440"/>
            <a:ext cx="3067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34" idx="6"/>
            <a:endCxn id="242" idx="2"/>
          </p:cNvCxnSpPr>
          <p:nvPr/>
        </p:nvCxnSpPr>
        <p:spPr>
          <a:xfrm>
            <a:off x="6474960" y="3304800"/>
            <a:ext cx="3067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E7B0-1BF6-4F7A-B51F-7467DFC896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2120" y="152388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546da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wo styles of autovers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T / PROPPA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CHECKOUT </a:t>
            </a:r>
            <a:r>
              <a:rPr b="0" lang="en-US" sz="20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PUT / PROPPATCH </a:t>
            </a:r>
            <a:r>
              <a:rPr b="0" lang="en-US" sz="20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CHECK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LOCK </a:t>
            </a:r>
            <a:r>
              <a:rPr b="0" lang="en-US" sz="20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CHECKOU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CHECKIN </a:t>
            </a:r>
            <a:r>
              <a:rPr b="0" lang="en-US" sz="20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UN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elta-V Auto Versioning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6700680"/>
            <a:ext cx="53352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00"/>
                </a:solidFill>
                <a:latin typeface="Arial Narrow"/>
              </a:rPr>
              <a:t>Midd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20600" y="3962520"/>
            <a:ext cx="3276720" cy="1981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62320" y="5257800"/>
            <a:ext cx="45540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4114800"/>
            <a:ext cx="45576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3880" y="4114800"/>
            <a:ext cx="45576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96560" y="43434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240" y="40384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63600" y="55627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1" idx="2"/>
            <a:endCxn id="272" idx="6"/>
          </p:cNvCxnSpPr>
          <p:nvPr/>
        </p:nvCxnSpPr>
        <p:spPr>
          <a:xfrm rot="10800000">
            <a:off x="1978920" y="4295160"/>
            <a:ext cx="11451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1" idx="4"/>
            <a:endCxn id="270" idx="6"/>
          </p:cNvCxnSpPr>
          <p:nvPr/>
        </p:nvCxnSpPr>
        <p:spPr>
          <a:xfrm rot="5400000">
            <a:off x="2602800" y="4689360"/>
            <a:ext cx="964440" cy="535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2" idx="4"/>
            <a:endCxn id="270" idx="2"/>
          </p:cNvCxnSpPr>
          <p:nvPr/>
        </p:nvCxnSpPr>
        <p:spPr>
          <a:xfrm flipH="1" rot="16200000">
            <a:off x="1575360" y="4651560"/>
            <a:ext cx="96444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5"/>
            <a:endCxn id="270" idx="1"/>
          </p:cNvCxnSpPr>
          <p:nvPr/>
        </p:nvCxnSpPr>
        <p:spPr>
          <a:xfrm flipH="1" rot="16200000">
            <a:off x="1726200" y="4608360"/>
            <a:ext cx="888480" cy="516600"/>
          </a:xfrm>
          <a:prstGeom prst="curvedConnector5">
            <a:avLst>
              <a:gd name="adj1" fmla="val 49898"/>
              <a:gd name="adj2" fmla="val 50000"/>
              <a:gd name="adj3" fmla="val 498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3275640" y="49528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eck-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3962520"/>
            <a:ext cx="3276720" cy="1981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43600" y="5257800"/>
            <a:ext cx="45576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05720" y="4114800"/>
            <a:ext cx="45540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4114800"/>
            <a:ext cx="45540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77840" y="43434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520" y="40384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44880" y="55627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83" idx="2"/>
            <a:endCxn id="284" idx="6"/>
          </p:cNvCxnSpPr>
          <p:nvPr/>
        </p:nvCxnSpPr>
        <p:spPr>
          <a:xfrm rot="10800000">
            <a:off x="5560200" y="4295160"/>
            <a:ext cx="11455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3" idx="4"/>
            <a:endCxn id="290" idx="0"/>
          </p:cNvCxnSpPr>
          <p:nvPr/>
        </p:nvCxnSpPr>
        <p:spPr>
          <a:xfrm flipV="1" rot="10800000">
            <a:off x="6933600" y="4474800"/>
            <a:ext cx="1080" cy="783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4" idx="4"/>
            <a:endCxn id="282" idx="2"/>
          </p:cNvCxnSpPr>
          <p:nvPr/>
        </p:nvCxnSpPr>
        <p:spPr>
          <a:xfrm flipH="1" rot="16200000">
            <a:off x="5155920" y="4651920"/>
            <a:ext cx="96444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84" idx="5"/>
            <a:endCxn id="282" idx="1"/>
          </p:cNvCxnSpPr>
          <p:nvPr/>
        </p:nvCxnSpPr>
        <p:spPr>
          <a:xfrm flipH="1" rot="16200000">
            <a:off x="5307480" y="4608360"/>
            <a:ext cx="888480" cy="516600"/>
          </a:xfrm>
          <a:prstGeom prst="curvedConnector5">
            <a:avLst>
              <a:gd name="adj1" fmla="val 49898"/>
              <a:gd name="adj2" fmla="val 50000"/>
              <a:gd name="adj3" fmla="val 498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3" name=""/>
          <p:cNvSpPr/>
          <p:nvPr/>
        </p:nvSpPr>
        <p:spPr>
          <a:xfrm>
            <a:off x="6933240" y="47242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eck-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69" idx="2"/>
            <a:endCxn id="281" idx="2"/>
          </p:cNvCxnSpPr>
          <p:nvPr/>
        </p:nvCxnSpPr>
        <p:spPr>
          <a:xfrm flipH="1" rot="16200000">
            <a:off x="4433040" y="4168440"/>
            <a:ext cx="2160" cy="3552120"/>
          </a:xfrm>
          <a:prstGeom prst="curvedConnector5">
            <a:avLst>
              <a:gd name="adj1" fmla="val 20280000"/>
              <a:gd name="adj2" fmla="val 50000"/>
              <a:gd name="adj3" fmla="val 20280000"/>
            </a:avLst>
          </a:prstGeom>
          <a:ln w="76320">
            <a:solidFill>
              <a:srgbClr val="ccccff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3962880" y="6248520"/>
            <a:ext cx="126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UT / UN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05720" y="5257800"/>
            <a:ext cx="45540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4" idx="5"/>
            <a:endCxn id="290" idx="1"/>
          </p:cNvCxnSpPr>
          <p:nvPr/>
        </p:nvCxnSpPr>
        <p:spPr>
          <a:xfrm flipH="1" rot="16200000">
            <a:off x="5689440" y="4227120"/>
            <a:ext cx="888480" cy="1278720"/>
          </a:xfrm>
          <a:prstGeom prst="curvedConnector5">
            <a:avLst>
              <a:gd name="adj1" fmla="val 49898"/>
              <a:gd name="adj2" fmla="val 49985"/>
              <a:gd name="adj3" fmla="val 498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0" idx="2"/>
            <a:endCxn id="282" idx="6"/>
          </p:cNvCxnSpPr>
          <p:nvPr/>
        </p:nvCxnSpPr>
        <p:spPr>
          <a:xfrm rot="10800000">
            <a:off x="6398640" y="5438160"/>
            <a:ext cx="3067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82" idx="6"/>
            <a:endCxn id="290" idx="2"/>
          </p:cNvCxnSpPr>
          <p:nvPr/>
        </p:nvCxnSpPr>
        <p:spPr>
          <a:xfrm>
            <a:off x="6399000" y="5438520"/>
            <a:ext cx="3067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DF87B-08BC-4AFA-BD0B-9B15E3C4B1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elta-V Workspace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6700680"/>
            <a:ext cx="53352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00"/>
                </a:solidFill>
                <a:latin typeface="Arial Narrow"/>
              </a:rPr>
              <a:t>Midd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r change seperation and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7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kspaces can hold versioned or unversion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7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rver work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eparate namespace for each workspace: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/mycoll/ws/pn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/mycoll/ws/w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7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 work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o server name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75000"/>
              </a:lnSpc>
              <a:spcBef>
                <a:spcPts val="8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erver maintains "working resource" for each check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4A2DA-7F0C-4F42-841F-3C6254AF61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elta-V Workspace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6700680"/>
            <a:ext cx="53352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00"/>
                </a:solidFill>
                <a:latin typeface="Arial Narrow"/>
              </a:rPr>
              <a:t>Midd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3733920"/>
            <a:ext cx="2057400" cy="1600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8000"/>
                </a:solidFill>
                <a:latin typeface="Arial"/>
              </a:rPr>
              <a:t>Global Work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1981080"/>
            <a:ext cx="2209680" cy="1600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8000"/>
                </a:solidFill>
                <a:latin typeface="Arial"/>
              </a:rPr>
              <a:t>Juergen's Work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48120" y="1981080"/>
            <a:ext cx="2286000" cy="1600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8000"/>
                </a:solidFill>
                <a:latin typeface="Arial"/>
              </a:rPr>
              <a:t>Remy's Work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666880" y="5029200"/>
            <a:ext cx="45576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19720" y="4191120"/>
            <a:ext cx="45540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828800" y="3886200"/>
            <a:ext cx="45576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1480" y="41148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23920" y="44956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68160" y="5334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0" idx="2"/>
            <a:endCxn id="311" idx="6"/>
          </p:cNvCxnSpPr>
          <p:nvPr/>
        </p:nvCxnSpPr>
        <p:spPr>
          <a:xfrm rot="10800000">
            <a:off x="2283840" y="4066560"/>
            <a:ext cx="2135880" cy="305280"/>
          </a:xfrm>
          <a:prstGeom prst="curvedConnector5">
            <a:avLst>
              <a:gd name="adj1" fmla="val 49949"/>
              <a:gd name="adj2" fmla="val 49940"/>
              <a:gd name="adj3" fmla="val 499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310" idx="4"/>
            <a:endCxn id="309" idx="6"/>
          </p:cNvCxnSpPr>
          <p:nvPr/>
        </p:nvCxnSpPr>
        <p:spPr>
          <a:xfrm rot="5400000">
            <a:off x="3555360" y="4118040"/>
            <a:ext cx="659520" cy="1526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11" idx="4"/>
            <a:endCxn id="309" idx="2"/>
          </p:cNvCxnSpPr>
          <p:nvPr/>
        </p:nvCxnSpPr>
        <p:spPr>
          <a:xfrm flipH="1" rot="16200000">
            <a:off x="1879200" y="4423320"/>
            <a:ext cx="964440" cy="61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11" idx="5"/>
            <a:endCxn id="309" idx="1"/>
          </p:cNvCxnSpPr>
          <p:nvPr/>
        </p:nvCxnSpPr>
        <p:spPr>
          <a:xfrm flipH="1" rot="16200000">
            <a:off x="2031840" y="4379400"/>
            <a:ext cx="888480" cy="516960"/>
          </a:xfrm>
          <a:prstGeom prst="curvedConnector5">
            <a:avLst>
              <a:gd name="adj1" fmla="val 49898"/>
              <a:gd name="adj2" fmla="val 49965"/>
              <a:gd name="adj3" fmla="val 498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2742120" y="434340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eck-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4560" y="3886200"/>
            <a:ext cx="149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666699"/>
                </a:solidFill>
                <a:uFillTx/>
                <a:latin typeface="Arial"/>
              </a:rPr>
              <a:t>/mycoll/files/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2743200"/>
            <a:ext cx="45576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80920" y="30481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05680" y="2438280"/>
            <a:ext cx="179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666699"/>
                </a:solidFill>
                <a:uFillTx/>
                <a:latin typeface="Arial"/>
              </a:rPr>
              <a:t>/mycoll/ws/remy/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19920" y="2819520"/>
            <a:ext cx="45540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33960" y="28195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559840" y="2514600"/>
            <a:ext cx="198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666699"/>
                </a:solidFill>
                <a:uFillTx/>
                <a:latin typeface="Arial"/>
              </a:rPr>
              <a:t>/mycoll/ws/juergen/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7" name=""/>
          <p:cNvCxnSpPr>
            <a:stCxn id="321" idx="2"/>
            <a:endCxn id="311" idx="6"/>
          </p:cNvCxnSpPr>
          <p:nvPr/>
        </p:nvCxnSpPr>
        <p:spPr>
          <a:xfrm flipV="1" rot="10800000">
            <a:off x="2283840" y="2923200"/>
            <a:ext cx="1754640" cy="1143720"/>
          </a:xfrm>
          <a:prstGeom prst="curvedConnector5">
            <a:avLst>
              <a:gd name="adj1" fmla="val 49948"/>
              <a:gd name="adj2" fmla="val 50000"/>
              <a:gd name="adj3" fmla="val 49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24" idx="2"/>
            <a:endCxn id="311" idx="6"/>
          </p:cNvCxnSpPr>
          <p:nvPr/>
        </p:nvCxnSpPr>
        <p:spPr>
          <a:xfrm flipV="1" rot="10800000">
            <a:off x="2283840" y="2999880"/>
            <a:ext cx="3736080" cy="1067760"/>
          </a:xfrm>
          <a:prstGeom prst="curvedConnector5">
            <a:avLst>
              <a:gd name="adj1" fmla="val 49975"/>
              <a:gd name="adj2" fmla="val 49983"/>
              <a:gd name="adj3" fmla="val 49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1" idx="6"/>
            <a:endCxn id="309" idx="5"/>
          </p:cNvCxnSpPr>
          <p:nvPr/>
        </p:nvCxnSpPr>
        <p:spPr>
          <a:xfrm flipH="1">
            <a:off x="3055320" y="2924280"/>
            <a:ext cx="1438920" cy="2413440"/>
          </a:xfrm>
          <a:prstGeom prst="curvedConnector5">
            <a:avLst>
              <a:gd name="adj1" fmla="val -161036"/>
              <a:gd name="adj2" fmla="val 61405"/>
              <a:gd name="adj3" fmla="val -1610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24" idx="6"/>
            <a:endCxn id="309" idx="5"/>
          </p:cNvCxnSpPr>
          <p:nvPr/>
        </p:nvCxnSpPr>
        <p:spPr>
          <a:xfrm flipH="1">
            <a:off x="3055680" y="2999880"/>
            <a:ext cx="3420000" cy="2337480"/>
          </a:xfrm>
          <a:prstGeom prst="curvedConnector5">
            <a:avLst>
              <a:gd name="adj1" fmla="val -29803"/>
              <a:gd name="adj2" fmla="val 71087"/>
              <a:gd name="adj3" fmla="val -298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9690C-5CD3-4F03-9117-6997DB50C2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elta-V More feature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6700680"/>
            <a:ext cx="53352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00"/>
                </a:solidFill>
                <a:latin typeface="Arial Narrow"/>
              </a:rPr>
              <a:t>Midd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uman readable string, named ver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imple form of configuration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osition a VCR on a specified V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xtensible mechanism to obtain information about resources </a:t>
            </a:r>
            <a:r>
              <a:rPr b="0" i="1" lang="de-DE" sz="2600" spc="-1" strike="noStrike">
                <a:solidFill>
                  <a:srgbClr val="008000"/>
                </a:solidFill>
                <a:latin typeface="Arial"/>
              </a:rPr>
              <a:t>(usefull for WebDAV in general !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509D4-5F02-426D-988A-D7D8E25C6C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elta-V Advanced feature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700680"/>
            <a:ext cx="53352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00"/>
                </a:solidFill>
                <a:latin typeface="Arial Narrow"/>
              </a:rPr>
              <a:t>Midd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ombines branches within a VH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ombines two worksp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presents a Freeze/Snapshot of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s itself versio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ogical chang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spans multiple versions in multiple histo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rsioned Controlled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B5CF1-9E46-42A6-88F0-866AE13735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066680" y="3657600"/>
            <a:ext cx="6324840" cy="6094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esentation Agenda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6705720"/>
            <a:ext cx="53352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5050"/>
                </a:solidFill>
                <a:latin typeface="Arial Narrow"/>
              </a:rPr>
              <a:t>Begin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WebD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DAV Archit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lta-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S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karta Slid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BE165-4F36-4494-AF3B-9476310FDC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Slide: Component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6700680"/>
            <a:ext cx="53352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00"/>
                </a:solidFill>
                <a:latin typeface="Arial Narrow"/>
              </a:rPr>
              <a:t>Midd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2120" y="3429000"/>
            <a:ext cx="3528720" cy="126684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70480" y="342900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Comic Sans MS"/>
              </a:rPr>
              <a:t>WebDAV Client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4952880"/>
            <a:ext cx="6019560" cy="152424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066680" y="5638680"/>
            <a:ext cx="1219320" cy="685800"/>
            <a:chOff x="1066680" y="5638680"/>
            <a:chExt cx="1219320" cy="685800"/>
          </a:xfrm>
        </p:grpSpPr>
        <p:sp>
          <p:nvSpPr>
            <p:cNvPr id="351" name=""/>
            <p:cNvSpPr/>
            <p:nvPr/>
          </p:nvSpPr>
          <p:spPr>
            <a:xfrm>
              <a:off x="1066680" y="5790960"/>
              <a:ext cx="1219320" cy="457200"/>
            </a:xfrm>
            <a:prstGeom prst="rect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66680" y="6095880"/>
              <a:ext cx="1219320" cy="22860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66680" y="5638680"/>
              <a:ext cx="1219320" cy="22860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00160" y="6008400"/>
              <a:ext cx="117792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516040" y="5640480"/>
            <a:ext cx="1219320" cy="685800"/>
            <a:chOff x="2516040" y="5640480"/>
            <a:chExt cx="1219320" cy="685800"/>
          </a:xfrm>
        </p:grpSpPr>
        <p:sp>
          <p:nvSpPr>
            <p:cNvPr id="356" name=""/>
            <p:cNvSpPr/>
            <p:nvPr/>
          </p:nvSpPr>
          <p:spPr>
            <a:xfrm>
              <a:off x="2516040" y="5792760"/>
              <a:ext cx="1219320" cy="457200"/>
            </a:xfrm>
            <a:prstGeom prst="rect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16040" y="6097680"/>
              <a:ext cx="1219320" cy="22860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16040" y="5640480"/>
              <a:ext cx="1219320" cy="22860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49520" y="6010200"/>
              <a:ext cx="1177920" cy="228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869760" y="502920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Comic Sans MS"/>
              </a:rPr>
              <a:t>WebDAV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26200" y="1600200"/>
            <a:ext cx="1865520" cy="3657600"/>
          </a:xfrm>
          <a:custGeom>
            <a:avLst/>
            <a:gdLst>
              <a:gd name="textAreaLeft" fmla="*/ 91080 w 1865520"/>
              <a:gd name="textAreaRight" fmla="*/ 1774440 w 1865520"/>
              <a:gd name="textAreaTop" fmla="*/ 91080 h 3657600"/>
              <a:gd name="textAreaBottom" fmla="*/ 3566520 h 3657600"/>
            </a:gdLst>
            <a:ahLst/>
            <a:rect l="textAreaLeft" t="textAreaTop" r="textAreaRight" b="textAreaBottom"/>
            <a:pathLst>
              <a:path w="21600" h="42346">
                <a:moveTo>
                  <a:pt x="3600" y="0"/>
                </a:moveTo>
                <a:arcTo wR="3600" hR="3600" stAng="16200000" swAng="-5400000"/>
                <a:lnTo>
                  <a:pt x="0" y="38746"/>
                </a:lnTo>
                <a:arcTo wR="3600" hR="3600" stAng="10800000" swAng="-5400000"/>
                <a:lnTo>
                  <a:pt x="18000" y="4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c0c0">
              <a:alpha val="50000"/>
            </a:srgbClr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219080" y="183996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Comic Sans MS"/>
              </a:rPr>
              <a:t>TestSu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59160" y="3809880"/>
            <a:ext cx="159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ebDAV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Resource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JSR 147, 1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90680" y="5181480"/>
            <a:ext cx="25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WebDAV 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CM 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Stor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295400" y="3200400"/>
            <a:ext cx="1578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RFC 25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Multi 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I18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A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Delta-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DA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EN00378_" descr=""/>
          <p:cNvPicPr/>
          <p:nvPr/>
        </p:nvPicPr>
        <p:blipFill>
          <a:blip r:embed="rId1"/>
          <a:stretch/>
        </p:blipFill>
        <p:spPr>
          <a:xfrm>
            <a:off x="7315200" y="228600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762120" y="1676520"/>
            <a:ext cx="3528720" cy="144756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BD06790_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828720" cy="6840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861120" y="1676520"/>
            <a:ext cx="19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Comic Sans MS"/>
              </a:rPr>
              <a:t>WebDAV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02840" y="2133720"/>
            <a:ext cx="177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Command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HM00363_" descr=""/>
          <p:cNvPicPr/>
          <p:nvPr/>
        </p:nvPicPr>
        <p:blipFill>
          <a:blip r:embed="rId3"/>
          <a:stretch/>
        </p:blipFill>
        <p:spPr>
          <a:xfrm>
            <a:off x="990720" y="3809880"/>
            <a:ext cx="75888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FF07D-3622-405F-AB44-B6D7502C62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6840" y="151920"/>
            <a:ext cx="7770960" cy="11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Goals for a J2EE</a:t>
            </a:r>
            <a:r>
              <a:rPr b="0" lang="en-GB" sz="3600" spc="-1" strike="noStrike">
                <a:solidFill>
                  <a:srgbClr val="cc0000"/>
                </a:solidFill>
                <a:latin typeface="Arial"/>
                <a:ea typeface="Arial"/>
              </a:rPr>
              <a:t>™</a:t>
            </a: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 CM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020080" cy="473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DAV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tive Java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exible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ds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CEBA-74F6-4B48-A37C-E6FC8029AE4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Speakers Qualification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 of the WebDAV implementation “Jakarta Slide” and maintai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leader of Software AG’s “Tamino WebDAV Ser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of JSR147 and JSR 170 Expert Gro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ly contributing to Jakarta-Slide (commit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ly contributing to Jakarta-Tomcat (commit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n the subject of databases and repositories for more than 1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705720"/>
            <a:ext cx="53352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5050"/>
                </a:solidFill>
                <a:latin typeface="Arial Narrow"/>
              </a:rPr>
              <a:t>Begin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9372-C0B7-494E-B92A-3F5768B3DB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6840" y="151920"/>
            <a:ext cx="7770960" cy="11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Apache Slide 2.0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020080" cy="477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of of concept for a J2E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DAV centric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de provi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800" indent="-2782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ava Repository A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0800" indent="-2782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ebDAV server (level 2, DASL, Delta V, AC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0800" indent="-2782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ebDAV cl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0800" indent="-278280">
              <a:lnSpc>
                <a:spcPct val="7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ther alternative APIs (taglibs, ..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-source (Apache licen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0.0 target release: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 2002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preview 2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: http://jakarta.apache.org/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7DA84-E29A-4910-A50D-7F78C17316A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96840" y="151920"/>
            <a:ext cx="7770960" cy="11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Slide 2.0 Architecture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3124080"/>
            <a:ext cx="4952880" cy="1143000"/>
          </a:xfrm>
          <a:prstGeom prst="roundRect">
            <a:avLst>
              <a:gd name="adj" fmla="val 139"/>
            </a:avLst>
          </a:prstGeom>
          <a:solidFill>
            <a:srgbClr val="d4d6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143000" y="1600200"/>
            <a:ext cx="2890800" cy="452520"/>
            <a:chOff x="1143000" y="1600200"/>
            <a:chExt cx="2890800" cy="452520"/>
          </a:xfrm>
        </p:grpSpPr>
        <p:sp>
          <p:nvSpPr>
            <p:cNvPr id="379" name=""/>
            <p:cNvSpPr/>
            <p:nvPr/>
          </p:nvSpPr>
          <p:spPr>
            <a:xfrm>
              <a:off x="1143000" y="1600200"/>
              <a:ext cx="2890800" cy="452520"/>
            </a:xfrm>
            <a:prstGeom prst="roundRect">
              <a:avLst>
                <a:gd name="adj" fmla="val 16782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56840" y="1610640"/>
              <a:ext cx="24652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WebDAV Servl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334120" y="1600200"/>
            <a:ext cx="3043080" cy="452520"/>
            <a:chOff x="5334120" y="1600200"/>
            <a:chExt cx="3043080" cy="452520"/>
          </a:xfrm>
        </p:grpSpPr>
        <p:sp>
          <p:nvSpPr>
            <p:cNvPr id="382" name=""/>
            <p:cNvSpPr/>
            <p:nvPr/>
          </p:nvSpPr>
          <p:spPr>
            <a:xfrm>
              <a:off x="5334120" y="1600200"/>
              <a:ext cx="3043080" cy="452520"/>
            </a:xfrm>
            <a:prstGeom prst="roundRect">
              <a:avLst>
                <a:gd name="adj" fmla="val 34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57400" y="1609560"/>
              <a:ext cx="23965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Java 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143000" y="2523960"/>
            <a:ext cx="7310520" cy="433800"/>
            <a:chOff x="1143000" y="2523960"/>
            <a:chExt cx="7310520" cy="433800"/>
          </a:xfrm>
        </p:grpSpPr>
        <p:sp>
          <p:nvSpPr>
            <p:cNvPr id="385" name=""/>
            <p:cNvSpPr/>
            <p:nvPr/>
          </p:nvSpPr>
          <p:spPr>
            <a:xfrm>
              <a:off x="1143000" y="2590200"/>
              <a:ext cx="7310520" cy="303840"/>
            </a:xfrm>
            <a:prstGeom prst="roundRect">
              <a:avLst>
                <a:gd name="adj" fmla="val 16667"/>
              </a:avLst>
            </a:prstGeom>
            <a:solidFill>
              <a:srgbClr val="ffffb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82760" y="2523960"/>
              <a:ext cx="14320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Slide A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438280" y="2057400"/>
            <a:ext cx="304920" cy="533520"/>
          </a:xfrm>
          <a:prstGeom prst="upDownArrow">
            <a:avLst>
              <a:gd name="adj1" fmla="val 50000"/>
              <a:gd name="adj2" fmla="val 3483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2057400"/>
            <a:ext cx="304560" cy="533520"/>
          </a:xfrm>
          <a:prstGeom prst="upDownArrow">
            <a:avLst>
              <a:gd name="adj1" fmla="val 50000"/>
              <a:gd name="adj2" fmla="val 3487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2895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219320" y="3276720"/>
            <a:ext cx="1442880" cy="452160"/>
            <a:chOff x="1219320" y="3276720"/>
            <a:chExt cx="1442880" cy="452160"/>
          </a:xfrm>
        </p:grpSpPr>
        <p:sp>
          <p:nvSpPr>
            <p:cNvPr id="391" name=""/>
            <p:cNvSpPr/>
            <p:nvPr/>
          </p:nvSpPr>
          <p:spPr>
            <a:xfrm>
              <a:off x="1219320" y="3276720"/>
              <a:ext cx="1442880" cy="452160"/>
            </a:xfrm>
            <a:custGeom>
              <a:avLst/>
              <a:gdLst/>
              <a:ahLst/>
              <a:rect l="l" t="t" r="r" b="b"/>
              <a:pathLst>
                <a:path w="4014" h="1262">
                  <a:moveTo>
                    <a:pt x="0" y="147"/>
                  </a:moveTo>
                  <a:cubicBezTo>
                    <a:pt x="0" y="74"/>
                    <a:pt x="74" y="0"/>
                    <a:pt x="148" y="0"/>
                  </a:cubicBezTo>
                  <a:lnTo>
                    <a:pt x="3863" y="0"/>
                  </a:lnTo>
                  <a:cubicBezTo>
                    <a:pt x="3938" y="0"/>
                    <a:pt x="4013" y="74"/>
                    <a:pt x="4013" y="147"/>
                  </a:cubicBezTo>
                  <a:lnTo>
                    <a:pt x="4013" y="1112"/>
                  </a:lnTo>
                  <a:cubicBezTo>
                    <a:pt x="4013" y="1186"/>
                    <a:pt x="3938" y="1261"/>
                    <a:pt x="3863" y="1261"/>
                  </a:cubicBezTo>
                  <a:lnTo>
                    <a:pt x="148" y="1261"/>
                  </a:lnTo>
                  <a:cubicBezTo>
                    <a:pt x="74" y="1261"/>
                    <a:pt x="0" y="1186"/>
                    <a:pt x="0" y="1112"/>
                  </a:cubicBezTo>
                  <a:lnTo>
                    <a:pt x="0" y="147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00320" y="3286800"/>
              <a:ext cx="12808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3048120" y="3276720"/>
            <a:ext cx="833400" cy="452160"/>
            <a:chOff x="3048120" y="3276720"/>
            <a:chExt cx="833400" cy="452160"/>
          </a:xfrm>
        </p:grpSpPr>
        <p:sp>
          <p:nvSpPr>
            <p:cNvPr id="394" name=""/>
            <p:cNvSpPr/>
            <p:nvPr/>
          </p:nvSpPr>
          <p:spPr>
            <a:xfrm>
              <a:off x="3048120" y="3276720"/>
              <a:ext cx="833400" cy="452160"/>
            </a:xfrm>
            <a:custGeom>
              <a:avLst/>
              <a:gdLst/>
              <a:ahLst/>
              <a:rect l="l" t="t" r="r" b="b"/>
              <a:pathLst>
                <a:path w="2320" h="1262">
                  <a:moveTo>
                    <a:pt x="0" y="147"/>
                  </a:moveTo>
                  <a:cubicBezTo>
                    <a:pt x="0" y="74"/>
                    <a:pt x="74" y="0"/>
                    <a:pt x="148" y="0"/>
                  </a:cubicBezTo>
                  <a:lnTo>
                    <a:pt x="2169" y="0"/>
                  </a:lnTo>
                  <a:cubicBezTo>
                    <a:pt x="2244" y="0"/>
                    <a:pt x="2319" y="74"/>
                    <a:pt x="2319" y="147"/>
                  </a:cubicBezTo>
                  <a:lnTo>
                    <a:pt x="2319" y="1112"/>
                  </a:lnTo>
                  <a:cubicBezTo>
                    <a:pt x="2319" y="1186"/>
                    <a:pt x="2244" y="1261"/>
                    <a:pt x="2169" y="1261"/>
                  </a:cubicBezTo>
                  <a:lnTo>
                    <a:pt x="148" y="1261"/>
                  </a:lnTo>
                  <a:cubicBezTo>
                    <a:pt x="74" y="1261"/>
                    <a:pt x="0" y="1186"/>
                    <a:pt x="0" y="1112"/>
                  </a:cubicBezTo>
                  <a:lnTo>
                    <a:pt x="0" y="147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54240" y="3286800"/>
              <a:ext cx="8236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Lo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267080" y="3276720"/>
            <a:ext cx="1443240" cy="452160"/>
            <a:chOff x="4267080" y="3276720"/>
            <a:chExt cx="1443240" cy="452160"/>
          </a:xfrm>
        </p:grpSpPr>
        <p:sp>
          <p:nvSpPr>
            <p:cNvPr id="397" name=""/>
            <p:cNvSpPr/>
            <p:nvPr/>
          </p:nvSpPr>
          <p:spPr>
            <a:xfrm>
              <a:off x="4267080" y="3276720"/>
              <a:ext cx="1443240" cy="452160"/>
            </a:xfrm>
            <a:custGeom>
              <a:avLst/>
              <a:gdLst/>
              <a:ahLst/>
              <a:rect l="l" t="t" r="r" b="b"/>
              <a:pathLst>
                <a:path w="4014" h="1262">
                  <a:moveTo>
                    <a:pt x="0" y="147"/>
                  </a:moveTo>
                  <a:cubicBezTo>
                    <a:pt x="0" y="74"/>
                    <a:pt x="74" y="0"/>
                    <a:pt x="148" y="0"/>
                  </a:cubicBezTo>
                  <a:lnTo>
                    <a:pt x="3863" y="0"/>
                  </a:lnTo>
                  <a:cubicBezTo>
                    <a:pt x="3938" y="0"/>
                    <a:pt x="4013" y="74"/>
                    <a:pt x="4013" y="147"/>
                  </a:cubicBezTo>
                  <a:lnTo>
                    <a:pt x="4013" y="1112"/>
                  </a:lnTo>
                  <a:cubicBezTo>
                    <a:pt x="4013" y="1186"/>
                    <a:pt x="3938" y="1261"/>
                    <a:pt x="3863" y="1261"/>
                  </a:cubicBezTo>
                  <a:lnTo>
                    <a:pt x="148" y="1261"/>
                  </a:lnTo>
                  <a:cubicBezTo>
                    <a:pt x="74" y="1261"/>
                    <a:pt x="0" y="1186"/>
                    <a:pt x="0" y="1112"/>
                  </a:cubicBezTo>
                  <a:lnTo>
                    <a:pt x="0" y="147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65360" y="3286800"/>
              <a:ext cx="1247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2666880" y="34290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34290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05080" y="4267080"/>
            <a:ext cx="304920" cy="381240"/>
          </a:xfrm>
          <a:prstGeom prst="upDownArrow">
            <a:avLst>
              <a:gd name="adj1" fmla="val 50000"/>
              <a:gd name="adj2" fmla="val 2489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0720" y="4664160"/>
            <a:ext cx="5219640" cy="1330200"/>
          </a:xfrm>
          <a:prstGeom prst="roundRect">
            <a:avLst>
              <a:gd name="adj" fmla="val 116"/>
            </a:avLst>
          </a:prstGeom>
          <a:solidFill>
            <a:srgbClr val="c1c4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35840" y="5029200"/>
            <a:ext cx="974880" cy="833400"/>
            <a:chOff x="735840" y="5029200"/>
            <a:chExt cx="974880" cy="833400"/>
          </a:xfrm>
        </p:grpSpPr>
        <p:grpSp>
          <p:nvGrpSpPr>
            <p:cNvPr id="404" name=""/>
            <p:cNvGrpSpPr/>
            <p:nvPr/>
          </p:nvGrpSpPr>
          <p:grpSpPr>
            <a:xfrm>
              <a:off x="772920" y="5029200"/>
              <a:ext cx="907920" cy="833400"/>
              <a:chOff x="772920" y="5029200"/>
              <a:chExt cx="907920" cy="833400"/>
            </a:xfrm>
          </p:grpSpPr>
          <p:sp>
            <p:nvSpPr>
              <p:cNvPr id="405" name=""/>
              <p:cNvSpPr/>
              <p:nvPr/>
            </p:nvSpPr>
            <p:spPr>
              <a:xfrm>
                <a:off x="772920" y="5029200"/>
                <a:ext cx="907920" cy="833400"/>
              </a:xfrm>
              <a:custGeom>
                <a:avLst/>
                <a:gdLst/>
                <a:ahLst/>
                <a:rect l="l" t="t" r="r" b="b"/>
                <a:pathLst>
                  <a:path w="2529" h="2321">
                    <a:moveTo>
                      <a:pt x="1264" y="0"/>
                    </a:moveTo>
                    <a:cubicBezTo>
                      <a:pt x="574" y="0"/>
                      <a:pt x="0" y="132"/>
                      <a:pt x="0" y="290"/>
                    </a:cubicBezTo>
                    <a:lnTo>
                      <a:pt x="0" y="2030"/>
                    </a:lnTo>
                    <a:cubicBezTo>
                      <a:pt x="0" y="2188"/>
                      <a:pt x="574" y="2320"/>
                      <a:pt x="1264" y="2320"/>
                    </a:cubicBezTo>
                    <a:cubicBezTo>
                      <a:pt x="1954" y="2320"/>
                      <a:pt x="2528" y="2188"/>
                      <a:pt x="2528" y="2030"/>
                    </a:cubicBezTo>
                    <a:lnTo>
                      <a:pt x="2528" y="290"/>
                    </a:lnTo>
                    <a:cubicBezTo>
                      <a:pt x="2528" y="132"/>
                      <a:pt x="1954" y="0"/>
                      <a:pt x="1264" y="0"/>
                    </a:cubicBezTo>
                    <a:lnTo>
                      <a:pt x="1264" y="0"/>
                    </a:ln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72920" y="5029200"/>
                <a:ext cx="907920" cy="208800"/>
              </a:xfrm>
              <a:custGeom>
                <a:avLst/>
                <a:gdLst/>
                <a:ahLst/>
                <a:rect l="l" t="t" r="r" b="b"/>
                <a:pathLst>
                  <a:path w="2529" h="581">
                    <a:moveTo>
                      <a:pt x="1264" y="0"/>
                    </a:moveTo>
                    <a:cubicBezTo>
                      <a:pt x="574" y="0"/>
                      <a:pt x="0" y="132"/>
                      <a:pt x="0" y="290"/>
                    </a:cubicBezTo>
                    <a:cubicBezTo>
                      <a:pt x="0" y="447"/>
                      <a:pt x="574" y="580"/>
                      <a:pt x="1264" y="580"/>
                    </a:cubicBezTo>
                    <a:cubicBezTo>
                      <a:pt x="1954" y="580"/>
                      <a:pt x="2528" y="447"/>
                      <a:pt x="2528" y="290"/>
                    </a:cubicBezTo>
                    <a:cubicBezTo>
                      <a:pt x="2528" y="132"/>
                      <a:pt x="1954" y="0"/>
                      <a:pt x="1264" y="0"/>
                    </a:cubicBezTo>
                    <a:lnTo>
                      <a:pt x="1264" y="0"/>
                    </a:lnTo>
                  </a:path>
                </a:pathLst>
              </a:custGeom>
              <a:solidFill>
                <a:srgbClr val="dfd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735840" y="5283720"/>
              <a:ext cx="9748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JD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700640" y="5029200"/>
            <a:ext cx="1636200" cy="833400"/>
            <a:chOff x="1700640" y="5029200"/>
            <a:chExt cx="1636200" cy="833400"/>
          </a:xfrm>
        </p:grpSpPr>
        <p:grpSp>
          <p:nvGrpSpPr>
            <p:cNvPr id="409" name=""/>
            <p:cNvGrpSpPr/>
            <p:nvPr/>
          </p:nvGrpSpPr>
          <p:grpSpPr>
            <a:xfrm>
              <a:off x="1766520" y="5029200"/>
              <a:ext cx="1516320" cy="833400"/>
              <a:chOff x="1766520" y="5029200"/>
              <a:chExt cx="1516320" cy="833400"/>
            </a:xfrm>
          </p:grpSpPr>
          <p:sp>
            <p:nvSpPr>
              <p:cNvPr id="410" name=""/>
              <p:cNvSpPr/>
              <p:nvPr/>
            </p:nvSpPr>
            <p:spPr>
              <a:xfrm>
                <a:off x="1766520" y="5029200"/>
                <a:ext cx="1516320" cy="833400"/>
              </a:xfrm>
              <a:custGeom>
                <a:avLst/>
                <a:gdLst/>
                <a:ahLst/>
                <a:rect l="l" t="t" r="r" b="b"/>
                <a:pathLst>
                  <a:path w="4221" h="2321">
                    <a:moveTo>
                      <a:pt x="2109" y="0"/>
                    </a:moveTo>
                    <a:cubicBezTo>
                      <a:pt x="958" y="0"/>
                      <a:pt x="0" y="132"/>
                      <a:pt x="0" y="290"/>
                    </a:cubicBezTo>
                    <a:lnTo>
                      <a:pt x="0" y="2030"/>
                    </a:lnTo>
                    <a:cubicBezTo>
                      <a:pt x="0" y="2188"/>
                      <a:pt x="958" y="2320"/>
                      <a:pt x="2109" y="2320"/>
                    </a:cubicBezTo>
                    <a:cubicBezTo>
                      <a:pt x="3261" y="2320"/>
                      <a:pt x="4220" y="2188"/>
                      <a:pt x="4220" y="2030"/>
                    </a:cubicBezTo>
                    <a:lnTo>
                      <a:pt x="4220" y="290"/>
                    </a:lnTo>
                    <a:cubicBezTo>
                      <a:pt x="4220" y="132"/>
                      <a:pt x="3261" y="0"/>
                      <a:pt x="2109" y="0"/>
                    </a:cubicBezTo>
                    <a:lnTo>
                      <a:pt x="2109" y="0"/>
                    </a:ln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66520" y="5029200"/>
                <a:ext cx="1516320" cy="208800"/>
              </a:xfrm>
              <a:custGeom>
                <a:avLst/>
                <a:gdLst/>
                <a:ahLst/>
                <a:rect l="l" t="t" r="r" b="b"/>
                <a:pathLst>
                  <a:path w="4221" h="581">
                    <a:moveTo>
                      <a:pt x="2109" y="0"/>
                    </a:moveTo>
                    <a:cubicBezTo>
                      <a:pt x="958" y="0"/>
                      <a:pt x="0" y="132"/>
                      <a:pt x="0" y="290"/>
                    </a:cubicBezTo>
                    <a:cubicBezTo>
                      <a:pt x="0" y="447"/>
                      <a:pt x="958" y="580"/>
                      <a:pt x="2109" y="580"/>
                    </a:cubicBezTo>
                    <a:cubicBezTo>
                      <a:pt x="3261" y="580"/>
                      <a:pt x="4220" y="447"/>
                      <a:pt x="4220" y="290"/>
                    </a:cubicBezTo>
                    <a:cubicBezTo>
                      <a:pt x="4220" y="132"/>
                      <a:pt x="3261" y="0"/>
                      <a:pt x="2109" y="0"/>
                    </a:cubicBezTo>
                    <a:lnTo>
                      <a:pt x="2109" y="0"/>
                    </a:lnTo>
                  </a:path>
                </a:pathLst>
              </a:custGeom>
              <a:solidFill>
                <a:srgbClr val="dfd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1700640" y="5283720"/>
              <a:ext cx="16362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File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352680" y="2895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76920" y="2895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629400" y="4800600"/>
            <a:ext cx="833400" cy="528480"/>
            <a:chOff x="6629400" y="4800600"/>
            <a:chExt cx="833400" cy="528480"/>
          </a:xfrm>
        </p:grpSpPr>
        <p:sp>
          <p:nvSpPr>
            <p:cNvPr id="416" name=""/>
            <p:cNvSpPr/>
            <p:nvPr/>
          </p:nvSpPr>
          <p:spPr>
            <a:xfrm>
              <a:off x="6629400" y="4800600"/>
              <a:ext cx="833400" cy="528480"/>
            </a:xfrm>
            <a:prstGeom prst="roundRect">
              <a:avLst>
                <a:gd name="adj" fmla="val 16764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84840" y="4848120"/>
              <a:ext cx="7218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J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934320" y="2895480"/>
            <a:ext cx="228600" cy="1905120"/>
          </a:xfrm>
          <a:custGeom>
            <a:avLst/>
            <a:gdLst/>
            <a:ahLst/>
            <a:rect l="l" t="t" r="r" b="b"/>
            <a:pathLst>
              <a:path w="636" h="5293">
                <a:moveTo>
                  <a:pt x="0" y="1052"/>
                </a:moveTo>
                <a:lnTo>
                  <a:pt x="317" y="0"/>
                </a:lnTo>
                <a:lnTo>
                  <a:pt x="635" y="1052"/>
                </a:lnTo>
                <a:lnTo>
                  <a:pt x="476" y="1052"/>
                </a:lnTo>
                <a:lnTo>
                  <a:pt x="476" y="4238"/>
                </a:lnTo>
                <a:lnTo>
                  <a:pt x="635" y="4238"/>
                </a:lnTo>
                <a:lnTo>
                  <a:pt x="317" y="5292"/>
                </a:lnTo>
                <a:lnTo>
                  <a:pt x="0" y="4238"/>
                </a:lnTo>
                <a:lnTo>
                  <a:pt x="158" y="4238"/>
                </a:lnTo>
                <a:lnTo>
                  <a:pt x="158" y="1052"/>
                </a:lnTo>
                <a:lnTo>
                  <a:pt x="0" y="1052"/>
                </a:lnTo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354480" y="5029200"/>
            <a:ext cx="1290600" cy="833400"/>
            <a:chOff x="3354480" y="5029200"/>
            <a:chExt cx="1290600" cy="833400"/>
          </a:xfrm>
        </p:grpSpPr>
        <p:grpSp>
          <p:nvGrpSpPr>
            <p:cNvPr id="420" name=""/>
            <p:cNvGrpSpPr/>
            <p:nvPr/>
          </p:nvGrpSpPr>
          <p:grpSpPr>
            <a:xfrm>
              <a:off x="3354480" y="5029200"/>
              <a:ext cx="1290600" cy="833400"/>
              <a:chOff x="3354480" y="5029200"/>
              <a:chExt cx="1290600" cy="833400"/>
            </a:xfrm>
          </p:grpSpPr>
          <p:sp>
            <p:nvSpPr>
              <p:cNvPr id="421" name=""/>
              <p:cNvSpPr/>
              <p:nvPr/>
            </p:nvSpPr>
            <p:spPr>
              <a:xfrm>
                <a:off x="3354480" y="5029200"/>
                <a:ext cx="1290600" cy="833400"/>
              </a:xfrm>
              <a:custGeom>
                <a:avLst/>
                <a:gdLst/>
                <a:ahLst/>
                <a:rect l="l" t="t" r="r" b="b"/>
                <a:pathLst>
                  <a:path w="3591" h="2321">
                    <a:moveTo>
                      <a:pt x="1795" y="0"/>
                    </a:moveTo>
                    <a:cubicBezTo>
                      <a:pt x="815" y="0"/>
                      <a:pt x="0" y="132"/>
                      <a:pt x="0" y="290"/>
                    </a:cubicBezTo>
                    <a:lnTo>
                      <a:pt x="0" y="2030"/>
                    </a:lnTo>
                    <a:cubicBezTo>
                      <a:pt x="0" y="2188"/>
                      <a:pt x="815" y="2320"/>
                      <a:pt x="1795" y="2320"/>
                    </a:cubicBezTo>
                    <a:cubicBezTo>
                      <a:pt x="2774" y="2320"/>
                      <a:pt x="3590" y="2188"/>
                      <a:pt x="3590" y="2030"/>
                    </a:cubicBezTo>
                    <a:lnTo>
                      <a:pt x="3590" y="290"/>
                    </a:lnTo>
                    <a:cubicBezTo>
                      <a:pt x="3590" y="132"/>
                      <a:pt x="2774" y="0"/>
                      <a:pt x="1795" y="0"/>
                    </a:cubicBezTo>
                    <a:lnTo>
                      <a:pt x="1795" y="0"/>
                    </a:ln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354480" y="5029200"/>
                <a:ext cx="1290600" cy="208800"/>
              </a:xfrm>
              <a:custGeom>
                <a:avLst/>
                <a:gdLst/>
                <a:ahLst/>
                <a:rect l="l" t="t" r="r" b="b"/>
                <a:pathLst>
                  <a:path w="3591" h="581">
                    <a:moveTo>
                      <a:pt x="1795" y="0"/>
                    </a:moveTo>
                    <a:cubicBezTo>
                      <a:pt x="815" y="0"/>
                      <a:pt x="0" y="132"/>
                      <a:pt x="0" y="290"/>
                    </a:cubicBezTo>
                    <a:cubicBezTo>
                      <a:pt x="0" y="447"/>
                      <a:pt x="815" y="580"/>
                      <a:pt x="1795" y="580"/>
                    </a:cubicBezTo>
                    <a:cubicBezTo>
                      <a:pt x="2774" y="580"/>
                      <a:pt x="3590" y="447"/>
                      <a:pt x="3590" y="290"/>
                    </a:cubicBezTo>
                    <a:cubicBezTo>
                      <a:pt x="3590" y="132"/>
                      <a:pt x="2774" y="0"/>
                      <a:pt x="1795" y="0"/>
                    </a:cubicBezTo>
                    <a:lnTo>
                      <a:pt x="1795" y="0"/>
                    </a:lnTo>
                  </a:path>
                </a:pathLst>
              </a:custGeom>
              <a:solidFill>
                <a:srgbClr val="dfd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3396960" y="5283720"/>
              <a:ext cx="11955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Tami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5943600" y="4965840"/>
            <a:ext cx="685800" cy="2286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703760" y="5011560"/>
            <a:ext cx="1212480" cy="868680"/>
            <a:chOff x="4703760" y="5011560"/>
            <a:chExt cx="1212480" cy="868680"/>
          </a:xfrm>
        </p:grpSpPr>
        <p:grpSp>
          <p:nvGrpSpPr>
            <p:cNvPr id="426" name=""/>
            <p:cNvGrpSpPr/>
            <p:nvPr/>
          </p:nvGrpSpPr>
          <p:grpSpPr>
            <a:xfrm>
              <a:off x="4755960" y="5011560"/>
              <a:ext cx="1112760" cy="868680"/>
              <a:chOff x="4755960" y="5011560"/>
              <a:chExt cx="1112760" cy="868680"/>
            </a:xfrm>
          </p:grpSpPr>
          <p:sp>
            <p:nvSpPr>
              <p:cNvPr id="427" name=""/>
              <p:cNvSpPr/>
              <p:nvPr/>
            </p:nvSpPr>
            <p:spPr>
              <a:xfrm>
                <a:off x="4755960" y="5011560"/>
                <a:ext cx="1112760" cy="868680"/>
              </a:xfrm>
              <a:custGeom>
                <a:avLst/>
                <a:gdLst/>
                <a:ahLst/>
                <a:rect l="l" t="t" r="r" b="b"/>
                <a:pathLst>
                  <a:path w="3101" h="2417">
                    <a:moveTo>
                      <a:pt x="1548" y="0"/>
                    </a:moveTo>
                    <a:cubicBezTo>
                      <a:pt x="703" y="0"/>
                      <a:pt x="0" y="137"/>
                      <a:pt x="0" y="301"/>
                    </a:cubicBezTo>
                    <a:lnTo>
                      <a:pt x="0" y="2115"/>
                    </a:lnTo>
                    <a:cubicBezTo>
                      <a:pt x="0" y="2279"/>
                      <a:pt x="703" y="2416"/>
                      <a:pt x="1548" y="2416"/>
                    </a:cubicBezTo>
                    <a:cubicBezTo>
                      <a:pt x="2397" y="2416"/>
                      <a:pt x="3100" y="2279"/>
                      <a:pt x="3100" y="2115"/>
                    </a:cubicBezTo>
                    <a:lnTo>
                      <a:pt x="3100" y="301"/>
                    </a:lnTo>
                    <a:cubicBezTo>
                      <a:pt x="3100" y="137"/>
                      <a:pt x="2397" y="0"/>
                      <a:pt x="1548" y="0"/>
                    </a:cubicBezTo>
                    <a:lnTo>
                      <a:pt x="1548" y="0"/>
                    </a:lnTo>
                  </a:path>
                </a:pathLst>
              </a:custGeom>
              <a:solidFill>
                <a:srgbClr val="cc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5960" y="5011560"/>
                <a:ext cx="1112760" cy="217080"/>
              </a:xfrm>
              <a:custGeom>
                <a:avLst/>
                <a:gdLst/>
                <a:ahLst/>
                <a:rect l="l" t="t" r="r" b="b"/>
                <a:pathLst>
                  <a:path w="3101" h="605">
                    <a:moveTo>
                      <a:pt x="1548" y="0"/>
                    </a:moveTo>
                    <a:cubicBezTo>
                      <a:pt x="703" y="0"/>
                      <a:pt x="0" y="137"/>
                      <a:pt x="0" y="301"/>
                    </a:cubicBezTo>
                    <a:cubicBezTo>
                      <a:pt x="0" y="465"/>
                      <a:pt x="703" y="604"/>
                      <a:pt x="1548" y="604"/>
                    </a:cubicBezTo>
                    <a:cubicBezTo>
                      <a:pt x="2397" y="604"/>
                      <a:pt x="3100" y="465"/>
                      <a:pt x="3100" y="301"/>
                    </a:cubicBezTo>
                    <a:cubicBezTo>
                      <a:pt x="3100" y="137"/>
                      <a:pt x="2397" y="0"/>
                      <a:pt x="1548" y="0"/>
                    </a:cubicBezTo>
                    <a:lnTo>
                      <a:pt x="1548" y="0"/>
                    </a:lnTo>
                  </a:path>
                </a:pathLst>
              </a:custGeom>
              <a:solidFill>
                <a:srgbClr val="dfd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4703760" y="5286960"/>
              <a:ext cx="121248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J2E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990720" y="3809880"/>
            <a:ext cx="4952880" cy="457200"/>
          </a:xfrm>
          <a:prstGeom prst="roundRect">
            <a:avLst>
              <a:gd name="adj" fmla="val 347"/>
            </a:avLst>
          </a:prstGeom>
          <a:solidFill>
            <a:srgbClr val="c1c4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823120" y="3809880"/>
            <a:ext cx="12294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Hel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830680" y="4648320"/>
            <a:ext cx="1061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S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A6956-7E5C-4FCF-8103-578EB21A708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371600" y="2971800"/>
            <a:ext cx="7086600" cy="2057400"/>
          </a:xfrm>
          <a:prstGeom prst="roundRect">
            <a:avLst>
              <a:gd name="adj" fmla="val 74"/>
            </a:avLst>
          </a:prstGeom>
          <a:solidFill>
            <a:srgbClr val="d4d6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6840" y="151920"/>
            <a:ext cx="7770960" cy="11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Slide 2.0 Architecture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631880" y="3149640"/>
            <a:ext cx="2052720" cy="452520"/>
            <a:chOff x="1631880" y="3149640"/>
            <a:chExt cx="2052720" cy="452520"/>
          </a:xfrm>
        </p:grpSpPr>
        <p:sp>
          <p:nvSpPr>
            <p:cNvPr id="436" name=""/>
            <p:cNvSpPr/>
            <p:nvPr/>
          </p:nvSpPr>
          <p:spPr>
            <a:xfrm>
              <a:off x="1631880" y="3149640"/>
              <a:ext cx="2052720" cy="452520"/>
            </a:xfrm>
            <a:prstGeom prst="roundRect">
              <a:avLst>
                <a:gd name="adj" fmla="val 16782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58040" y="3161880"/>
              <a:ext cx="140004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Java A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371600" y="4572000"/>
            <a:ext cx="7086600" cy="457200"/>
          </a:xfrm>
          <a:prstGeom prst="roundRect">
            <a:avLst>
              <a:gd name="adj" fmla="val 347"/>
            </a:avLst>
          </a:prstGeom>
          <a:solidFill>
            <a:srgbClr val="c1c4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98680" y="4572000"/>
            <a:ext cx="14320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Slide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886200" y="3149640"/>
            <a:ext cx="2052720" cy="452520"/>
            <a:chOff x="3886200" y="3149640"/>
            <a:chExt cx="2052720" cy="452520"/>
          </a:xfrm>
        </p:grpSpPr>
        <p:sp>
          <p:nvSpPr>
            <p:cNvPr id="441" name=""/>
            <p:cNvSpPr/>
            <p:nvPr/>
          </p:nvSpPr>
          <p:spPr>
            <a:xfrm>
              <a:off x="3886200" y="3149640"/>
              <a:ext cx="2052720" cy="452520"/>
            </a:xfrm>
            <a:prstGeom prst="roundRect">
              <a:avLst>
                <a:gd name="adj" fmla="val 16782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51480" y="3161880"/>
              <a:ext cx="7218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J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6151680" y="3149640"/>
            <a:ext cx="2054160" cy="453960"/>
            <a:chOff x="6151680" y="3149640"/>
            <a:chExt cx="2054160" cy="453960"/>
          </a:xfrm>
        </p:grpSpPr>
        <p:sp>
          <p:nvSpPr>
            <p:cNvPr id="444" name=""/>
            <p:cNvSpPr/>
            <p:nvPr/>
          </p:nvSpPr>
          <p:spPr>
            <a:xfrm>
              <a:off x="6151680" y="3149640"/>
              <a:ext cx="2054160" cy="453960"/>
            </a:xfrm>
            <a:prstGeom prst="roundRect">
              <a:avLst>
                <a:gd name="adj" fmla="val 16782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75880" y="3162960"/>
              <a:ext cx="18039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JSTL Tag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631880" y="3862440"/>
            <a:ext cx="2054160" cy="453960"/>
            <a:chOff x="1631880" y="3862440"/>
            <a:chExt cx="2054160" cy="453960"/>
          </a:xfrm>
        </p:grpSpPr>
        <p:sp>
          <p:nvSpPr>
            <p:cNvPr id="447" name=""/>
            <p:cNvSpPr/>
            <p:nvPr/>
          </p:nvSpPr>
          <p:spPr>
            <a:xfrm>
              <a:off x="1631880" y="3862440"/>
              <a:ext cx="2054160" cy="453960"/>
            </a:xfrm>
            <a:prstGeom prst="roundRect">
              <a:avLst>
                <a:gd name="adj" fmla="val 16782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716840" y="3875760"/>
              <a:ext cx="18907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Struts Tag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3886200" y="3862440"/>
            <a:ext cx="2052720" cy="452520"/>
            <a:chOff x="3886200" y="3862440"/>
            <a:chExt cx="2052720" cy="452520"/>
          </a:xfrm>
        </p:grpSpPr>
        <p:sp>
          <p:nvSpPr>
            <p:cNvPr id="450" name=""/>
            <p:cNvSpPr/>
            <p:nvPr/>
          </p:nvSpPr>
          <p:spPr>
            <a:xfrm>
              <a:off x="3886200" y="3862440"/>
              <a:ext cx="2052720" cy="452520"/>
            </a:xfrm>
            <a:prstGeom prst="roundRect">
              <a:avLst>
                <a:gd name="adj" fmla="val 16782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83440" y="3874680"/>
              <a:ext cx="8575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JND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4746600" y="2422440"/>
            <a:ext cx="228600" cy="457200"/>
          </a:xfrm>
          <a:custGeom>
            <a:avLst/>
            <a:gdLst/>
            <a:ahLst/>
            <a:rect l="l" t="t" r="r" b="b"/>
            <a:pathLst>
              <a:path w="636" h="1271">
                <a:moveTo>
                  <a:pt x="0" y="251"/>
                </a:moveTo>
                <a:lnTo>
                  <a:pt x="317" y="0"/>
                </a:lnTo>
                <a:lnTo>
                  <a:pt x="635" y="251"/>
                </a:lnTo>
                <a:lnTo>
                  <a:pt x="476" y="251"/>
                </a:lnTo>
                <a:lnTo>
                  <a:pt x="476" y="1017"/>
                </a:lnTo>
                <a:lnTo>
                  <a:pt x="635" y="1017"/>
                </a:lnTo>
                <a:lnTo>
                  <a:pt x="317" y="1270"/>
                </a:lnTo>
                <a:lnTo>
                  <a:pt x="0" y="1017"/>
                </a:lnTo>
                <a:lnTo>
                  <a:pt x="158" y="1017"/>
                </a:lnTo>
                <a:lnTo>
                  <a:pt x="158" y="251"/>
                </a:lnTo>
                <a:lnTo>
                  <a:pt x="0" y="251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30560" y="1530360"/>
            <a:ext cx="3351240" cy="809640"/>
          </a:xfrm>
          <a:custGeom>
            <a:avLst/>
            <a:gdLst/>
            <a:ahLst/>
            <a:rect l="l" t="t" r="r" b="b"/>
            <a:pathLst>
              <a:path w="9309" h="2249">
                <a:moveTo>
                  <a:pt x="0" y="0"/>
                </a:moveTo>
                <a:lnTo>
                  <a:pt x="9308" y="0"/>
                </a:lnTo>
                <a:lnTo>
                  <a:pt x="9308" y="2248"/>
                </a:lnTo>
                <a:lnTo>
                  <a:pt x="0" y="2248"/>
                </a:lnTo>
                <a:lnTo>
                  <a:pt x="0" y="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906000" y="1519560"/>
            <a:ext cx="177192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Servlet/J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68920" y="5129280"/>
            <a:ext cx="249120" cy="498240"/>
          </a:xfrm>
          <a:custGeom>
            <a:avLst/>
            <a:gdLst/>
            <a:ahLst/>
            <a:rect l="l" t="t" r="r" b="b"/>
            <a:pathLst>
              <a:path w="693" h="1384">
                <a:moveTo>
                  <a:pt x="0" y="273"/>
                </a:moveTo>
                <a:lnTo>
                  <a:pt x="346" y="0"/>
                </a:lnTo>
                <a:lnTo>
                  <a:pt x="692" y="273"/>
                </a:lnTo>
                <a:lnTo>
                  <a:pt x="519" y="273"/>
                </a:lnTo>
                <a:lnTo>
                  <a:pt x="519" y="1108"/>
                </a:lnTo>
                <a:lnTo>
                  <a:pt x="692" y="1108"/>
                </a:lnTo>
                <a:lnTo>
                  <a:pt x="346" y="1383"/>
                </a:lnTo>
                <a:lnTo>
                  <a:pt x="0" y="1108"/>
                </a:lnTo>
                <a:lnTo>
                  <a:pt x="171" y="1108"/>
                </a:lnTo>
                <a:lnTo>
                  <a:pt x="171" y="273"/>
                </a:lnTo>
                <a:lnTo>
                  <a:pt x="0" y="273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3429000" y="5724360"/>
            <a:ext cx="2967120" cy="433800"/>
            <a:chOff x="3429000" y="5724360"/>
            <a:chExt cx="2967120" cy="433800"/>
          </a:xfrm>
        </p:grpSpPr>
        <p:sp>
          <p:nvSpPr>
            <p:cNvPr id="457" name=""/>
            <p:cNvSpPr/>
            <p:nvPr/>
          </p:nvSpPr>
          <p:spPr>
            <a:xfrm>
              <a:off x="3429000" y="5743080"/>
              <a:ext cx="2967120" cy="393840"/>
            </a:xfrm>
            <a:custGeom>
              <a:avLst/>
              <a:gdLst/>
              <a:ahLst/>
              <a:rect l="l" t="t" r="r" b="b"/>
              <a:pathLst>
                <a:path w="8247" h="1099">
                  <a:moveTo>
                    <a:pt x="0" y="0"/>
                  </a:moveTo>
                  <a:lnTo>
                    <a:pt x="8246" y="0"/>
                  </a:lnTo>
                  <a:lnTo>
                    <a:pt x="8246" y="1098"/>
                  </a:lnTo>
                  <a:lnTo>
                    <a:pt x="0" y="1098"/>
                  </a:lnTo>
                  <a:lnTo>
                    <a:pt x="0" y="0"/>
                  </a:lnTo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17600" y="5724360"/>
              <a:ext cx="1789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Data St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C694D-1D38-4B46-9169-2DF0A3C81E1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6840" y="151920"/>
            <a:ext cx="7770960" cy="11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Architectural Problem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020080" cy="473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Java repository API is “proprieta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support for messaging at the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DAV depends on the “proprietary” repository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ill some work left in J2E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™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JCA support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Security Manager awar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4968E-B3C3-423C-BF21-A2716F8B52B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6840" y="151920"/>
            <a:ext cx="7770960" cy="11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JSR 170 – Content Repository for Java</a:t>
            </a:r>
            <a:r>
              <a:rPr b="0" lang="en-GB" sz="3600" spc="-1" strike="noStrike">
                <a:solidFill>
                  <a:srgbClr val="cc0000"/>
                </a:solidFill>
                <a:latin typeface="Arial"/>
                <a:ea typeface="Arial"/>
              </a:rPr>
              <a:t>™</a:t>
            </a: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 technology API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020080" cy="473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anular R/W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s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d and Soft structured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nt monitoring (J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-text seach and fil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king and Con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: http://www.jcp.org/jsr/detail/170.j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CADB5-DBB0-42C3-9811-795155EDD57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6840" y="151920"/>
            <a:ext cx="7770960" cy="11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Slide.next and JSR 170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020080" cy="473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SR 170 API features are very similar to the Slide API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SR 170 adds missing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jor Slide contributors participating in JSR 170 Exper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SR 170 target completion date is Jun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de.next MAY implement JSR 1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uld make the project more mod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763C2-F1AD-4CBD-8352-6A7A8A597BD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066680" y="2819520"/>
            <a:ext cx="6324840" cy="16761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esentation Agenda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6705720"/>
            <a:ext cx="53352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5050"/>
                </a:solidFill>
                <a:latin typeface="Arial Narrow"/>
              </a:rPr>
              <a:t>Begin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WebD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karta Slid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lta-V with Tamino WebDAV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2EE CMS in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2B8F7-3CD5-4B1E-857C-718E65E93F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2266920" y="2322360"/>
            <a:ext cx="6838920" cy="22100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7772400" y="5905440"/>
            <a:ext cx="1371600" cy="95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F1349-9273-4994-84A8-8BB5D7D4B64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2266920" y="2322360"/>
            <a:ext cx="6838920" cy="22100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7772400" y="5905440"/>
            <a:ext cx="1371600" cy="95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9F67A-B992-46B9-84D7-FFA9027BAFB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jo02_V-splash---logo" descr=""/>
          <p:cNvPicPr/>
          <p:nvPr/>
        </p:nvPicPr>
        <p:blipFill>
          <a:blip r:embed="rId1"/>
          <a:stretch/>
        </p:blipFill>
        <p:spPr>
          <a:xfrm>
            <a:off x="2809800" y="1349280"/>
            <a:ext cx="6334200" cy="3241800"/>
          </a:xfrm>
          <a:prstGeom prst="rect">
            <a:avLst/>
          </a:prstGeom>
          <a:ln w="0">
            <a:noFill/>
          </a:ln>
        </p:spPr>
      </p:pic>
      <p:pic>
        <p:nvPicPr>
          <p:cNvPr id="477" name="jo02_V-splash-box" descr=""/>
          <p:cNvPicPr/>
          <p:nvPr/>
        </p:nvPicPr>
        <p:blipFill>
          <a:blip r:embed="rId2"/>
          <a:stretch/>
        </p:blipFill>
        <p:spPr>
          <a:xfrm>
            <a:off x="3824280" y="5497560"/>
            <a:ext cx="5319720" cy="136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Session #248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WebDAV Mission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705720"/>
            <a:ext cx="53352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5050"/>
                </a:solidFill>
                <a:latin typeface="Arial Narrow"/>
              </a:rPr>
              <a:t>Begin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ile"/>
          <p:cNvSpPr/>
          <p:nvPr/>
        </p:nvSpPr>
        <p:spPr>
          <a:xfrm>
            <a:off x="2209680" y="2895480"/>
            <a:ext cx="4876920" cy="1905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 World is A Fold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46241-4146-47D1-8E59-1BC246B333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1752480"/>
            <a:ext cx="6324840" cy="19051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esentation Agenda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705720"/>
            <a:ext cx="53352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5050"/>
                </a:solidFill>
                <a:latin typeface="Arial Narrow"/>
              </a:rPr>
              <a:t>Begin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WebD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DAV Archit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lta-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S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karta Slid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DDEED-D91A-460D-ADF2-FE167782E2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WebDAV Architecture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408920"/>
            <a:ext cx="6477120" cy="77436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HyperText Transfer Protoc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Arial"/>
              </a:rPr>
              <a:t>GET, HEAD, POST, OPTIONS, PUT, DELETE,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06440" y="3440520"/>
            <a:ext cx="6465960" cy="77436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bDAV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Distributed Authoring Protoc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Arial"/>
              </a:rPr>
              <a:t>PROPFIND, PROPPATCH, LOCK, UNLOCK, MKCOL, COPY,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2503800"/>
            <a:ext cx="1503360" cy="77436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lt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Arial"/>
              </a:rPr>
              <a:t>11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33640" y="2503800"/>
            <a:ext cx="1503360" cy="77436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Arial"/>
              </a:rPr>
              <a:t>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2503800"/>
            <a:ext cx="1838160" cy="77436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Arial"/>
              </a:rPr>
              <a:t>ACL,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46960" y="2422080"/>
            <a:ext cx="1225440" cy="93780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700680"/>
            <a:ext cx="53352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00"/>
                </a:solidFill>
                <a:latin typeface="Arial Narrow"/>
              </a:rPr>
              <a:t>Midd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8A1F0-C09A-4117-9DAD-0D3870573C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WebDAV Architecture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44953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 fontScale="77000"/>
          </a:bodyPr>
          <a:p>
            <a:pPr marL="313920" indent="-31392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SzPct val="130000"/>
              <a:buFont typeface="Arial"/>
              <a:buChar char="•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bDA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has no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SzPct val="130000"/>
              <a:buFont typeface="Arial"/>
              <a:buChar char="•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pport for versioning-unaware clients (auto versio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SzPct val="130000"/>
              <a:buFont typeface="Arial"/>
              <a:buChar char="•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mepage: </a:t>
            </a:r>
            <a:r>
              <a:rPr b="1" lang="de-DE" sz="1800" spc="-1" strike="noStrike">
                <a:solidFill>
                  <a:srgbClr val="000099"/>
                </a:solidFill>
                <a:latin typeface="Arial"/>
              </a:rPr>
              <a:t>http://webdav.org/delt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SzPct val="130000"/>
              <a:buFont typeface="Arial"/>
              <a:buChar char="•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pproved as a standard just rec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3341880"/>
            <a:ext cx="5362560" cy="77472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HyperText Transfer Protoc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Arial"/>
              </a:rPr>
              <a:t>GET, HEAD, POST, OPTIONS, PUT, DELETE,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481480"/>
            <a:ext cx="5352840" cy="77436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bDAV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Distributed Authoring Protoc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Arial"/>
              </a:rPr>
              <a:t>PROPFIND, PROPPATCH, LOCK, UNLOCK, MKCOL, COPY,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589400"/>
            <a:ext cx="1244520" cy="774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lt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Arial"/>
              </a:rPr>
              <a:t>11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1589400"/>
            <a:ext cx="1244520" cy="77436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Arial"/>
              </a:rPr>
              <a:t>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589400"/>
            <a:ext cx="1522440" cy="77436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Arial"/>
              </a:rPr>
              <a:t>ACL,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507680"/>
            <a:ext cx="1015920" cy="93780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700680"/>
            <a:ext cx="53352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00"/>
                </a:solidFill>
                <a:latin typeface="Arial Narrow"/>
              </a:rPr>
              <a:t>Midd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5451B-7A60-49B0-8969-F3DB26E843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WebDAV Architecture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44953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90360" bIns="90360" anchor="t">
            <a:normAutofit/>
          </a:bodyPr>
          <a:p>
            <a:pPr marL="407880" indent="-4078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SzPct val="130000"/>
              <a:buFont typeface="Arial"/>
              <a:buChar char="•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ery protocol for data and query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7880" indent="-4078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SzPct val="130000"/>
              <a:buFont typeface="Arial"/>
              <a:buChar char="•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ndard Query language for properties and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7880" indent="-407880">
              <a:lnSpc>
                <a:spcPct val="75000"/>
              </a:lnSpc>
              <a:spcBef>
                <a:spcPts val="1125"/>
              </a:spcBef>
              <a:buClr>
                <a:srgbClr val="cc0000"/>
              </a:buClr>
              <a:buSzPct val="130000"/>
              <a:buFont typeface="Arial"/>
              <a:buChar char="•"/>
              <a:tabLst>
                <a:tab algn="l" pos="736560"/>
                <a:tab algn="l" pos="1104840"/>
                <a:tab algn="l" pos="1473120"/>
                <a:tab algn="l" pos="184140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dditional Query languages (e.g. X-Qu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341880"/>
            <a:ext cx="5362560" cy="77472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HyperText Transfer Protoc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Arial"/>
              </a:rPr>
              <a:t>GET, HEAD, POST, OPTIONS, PUT, DELETE,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2481480"/>
            <a:ext cx="5352840" cy="77436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bDAV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Distributed Authoring Protoc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Arial"/>
              </a:rPr>
              <a:t>PROPFIND, PROPPATCH, LOCK, UNLOCK, MKCOL, COPY,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589400"/>
            <a:ext cx="1244520" cy="77436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lt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Arial"/>
              </a:rPr>
              <a:t>11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1589400"/>
            <a:ext cx="1244520" cy="774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Arial"/>
              </a:rPr>
              <a:t>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1589400"/>
            <a:ext cx="1522440" cy="77436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Arial"/>
              </a:rPr>
              <a:t>ACL,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1507680"/>
            <a:ext cx="1015920" cy="93780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700680"/>
            <a:ext cx="53352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00"/>
                </a:solidFill>
                <a:latin typeface="Arial Narrow"/>
              </a:rPr>
              <a:t>Midd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0464E-983A-483F-80B6-501DE7BAD5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elta-V Overview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700680"/>
            <a:ext cx="53352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00"/>
                </a:solidFill>
                <a:latin typeface="Arial Narrow"/>
              </a:rPr>
              <a:t>Midd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800600"/>
            <a:ext cx="8001000" cy="1066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ore-Versioning Pack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90880" y="5109120"/>
            <a:ext cx="2392200" cy="459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Version-Control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8000"/>
                </a:solidFill>
                <a:latin typeface="Arial"/>
              </a:rPr>
              <a:t>VERSION-CONTROL,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895480"/>
            <a:ext cx="4267080" cy="1752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sic-Server-Workspace Pack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0" y="3356640"/>
            <a:ext cx="2989440" cy="459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Checkout-In-Place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8000"/>
                </a:solidFill>
                <a:latin typeface="Arial"/>
              </a:rPr>
              <a:t>CHECKIN, CHECKOUT, UNCHECK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6560" y="3966120"/>
            <a:ext cx="1911960" cy="459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Version-History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no extra method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5880" y="3966120"/>
            <a:ext cx="1590480" cy="459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rkspace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8000"/>
                </a:solidFill>
                <a:latin typeface="Arial"/>
              </a:rPr>
              <a:t>MKWORK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2895480"/>
            <a:ext cx="3505320" cy="1752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sic-Client-Workspace Pack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64240" y="3356640"/>
            <a:ext cx="2466720" cy="459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rking-Resource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8000"/>
                </a:solidFill>
                <a:latin typeface="Arial"/>
              </a:rPr>
              <a:t>CHECKIN, CHECKOUT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(on V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89640" y="3966120"/>
            <a:ext cx="1174320" cy="459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Label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8000"/>
                </a:solidFill>
                <a:latin typeface="Arial"/>
              </a:rPr>
              <a:t>LA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9840" y="3966120"/>
            <a:ext cx="1291680" cy="459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Update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8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600200"/>
            <a:ext cx="800100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vanced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7280" y="2061000"/>
            <a:ext cx="1224720" cy="459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Merge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8000"/>
                </a:solidFill>
                <a:latin typeface="Arial"/>
              </a:rPr>
              <a:t>ME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3400" y="2061000"/>
            <a:ext cx="1755000" cy="459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Baseline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8000"/>
                </a:solidFill>
                <a:latin typeface="Arial"/>
              </a:rPr>
              <a:t>BASELINE-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7040" y="2061000"/>
            <a:ext cx="2936160" cy="459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Version-Controlled-Collection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no extra method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7320" y="2061000"/>
            <a:ext cx="1326600" cy="459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Activity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8000"/>
                </a:solidFill>
                <a:latin typeface="Arial"/>
              </a:rPr>
              <a:t>MK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B6616-FD28-41E6-AF78-A49B720AEA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elta-V Versioning Schema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700680"/>
            <a:ext cx="53352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00"/>
                </a:solidFill>
                <a:latin typeface="Arial Narrow"/>
              </a:rPr>
              <a:t>Midd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905120"/>
            <a:ext cx="2210040" cy="3429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1905120"/>
            <a:ext cx="4038480" cy="3429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97120" y="2652480"/>
            <a:ext cx="520200" cy="390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495680"/>
            <a:ext cx="45576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2666880"/>
            <a:ext cx="45576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2666880"/>
            <a:ext cx="45576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03880" y="236232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99"/>
                </a:solidFill>
                <a:uFillTx/>
                <a:latin typeface="Arial"/>
              </a:rPr>
              <a:t>/files/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56040" y="480060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Arial"/>
              </a:rPr>
              <a:t>history/1/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200" y="236232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99"/>
                </a:solidFill>
                <a:latin typeface="Arial"/>
              </a:rPr>
              <a:t>/history/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31880" y="236232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99"/>
                </a:solidFill>
                <a:uFillTx/>
                <a:latin typeface="Arial"/>
              </a:rPr>
              <a:t>/files/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240" y="28954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040" y="29718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8840" y="48769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55" idx="2"/>
            <a:endCxn id="156" idx="6"/>
          </p:cNvCxnSpPr>
          <p:nvPr/>
        </p:nvCxnSpPr>
        <p:spPr>
          <a:xfrm rot="10800000">
            <a:off x="4569840" y="2847240"/>
            <a:ext cx="17546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5" idx="4"/>
            <a:endCxn id="154" idx="6"/>
          </p:cNvCxnSpPr>
          <p:nvPr/>
        </p:nvCxnSpPr>
        <p:spPr>
          <a:xfrm rot="5400000">
            <a:off x="5307840" y="3432240"/>
            <a:ext cx="1650240" cy="840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6" idx="4"/>
            <a:endCxn id="154" idx="2"/>
          </p:cNvCxnSpPr>
          <p:nvPr/>
        </p:nvCxnSpPr>
        <p:spPr>
          <a:xfrm flipH="1" rot="16200000">
            <a:off x="3975840" y="3394440"/>
            <a:ext cx="16502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5"/>
            <a:endCxn id="154" idx="1"/>
          </p:cNvCxnSpPr>
          <p:nvPr/>
        </p:nvCxnSpPr>
        <p:spPr>
          <a:xfrm flipH="1" rot="16200000">
            <a:off x="4127400" y="3350880"/>
            <a:ext cx="1573920" cy="821520"/>
          </a:xfrm>
          <a:prstGeom prst="curvedConnector5">
            <a:avLst>
              <a:gd name="adj1" fmla="val 53466"/>
              <a:gd name="adj2" fmla="val 49978"/>
              <a:gd name="adj3" fmla="val 534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4799160" y="259092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sion-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3400" y="388620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eck-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2480" y="350532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sion-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240" y="426708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ot-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51" idx="2"/>
            <a:endCxn id="152" idx="2"/>
          </p:cNvCxnSpPr>
          <p:nvPr/>
        </p:nvCxnSpPr>
        <p:spPr>
          <a:xfrm flipH="1" rot="16200000">
            <a:off x="3846600" y="3658320"/>
            <a:ext cx="2160" cy="335340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76320">
            <a:solidFill>
              <a:srgbClr val="ccccff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2851200" y="5638680"/>
            <a:ext cx="167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SION-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ssion #248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D92FB-929B-4508-8713-4E4F985CF3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21:02:18Z</dcterms:created>
  <dc:creator>Andrew Penick</dc:creator>
  <dc:description/>
  <dc:language>en-US</dc:language>
  <cp:lastModifiedBy>Juergen Pill</cp:lastModifiedBy>
  <dcterms:modified xsi:type="dcterms:W3CDTF">2002-03-20T18:16:51Z</dcterms:modified>
  <cp:revision>107</cp:revision>
  <dc:subject/>
  <dc:title>No Slide Title</dc:title>
</cp:coreProperties>
</file>